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1AC7-E6A3-4E46-8793-A0A34863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B3F2-4A56-47CB-AD5A-59CE166D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4261-0032-499D-A48F-0AE5CC7FC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E56A-5D97-4346-BF8C-B2F0C62B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0CF6-4DF7-4D58-AD22-CE959241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7244-586C-4908-8777-D850F464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6F28-217E-476E-B5E0-E33E5321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F85-F22E-486A-BFDB-D3487839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A339-825D-404B-8EC3-196E2AFD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8EDD-897A-43CB-B139-DF85F5D9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FE35-8E94-4EE4-87B5-02BBE431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EA25-BF1A-480A-94FE-72693DB9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BEDC-7DE2-4EF3-8AB5-285762136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08:04:09Z</dcterms:created>
  <dc:creator/>
  <dc:description/>
  <dc:language>en-US</dc:language>
  <cp:lastModifiedBy>WIN7EN</cp:lastModifiedBy>
  <dcterms:modified xsi:type="dcterms:W3CDTF">2010-06-25T08:04:52Z</dcterms:modified>
  <cp:revision>1</cp:revision>
  <dc:subject/>
  <dc:title>Slide 1</dc:title>
</cp:coreProperties>
</file>