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17D-F8D0-414B-8FD5-7F362C3D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E97-37AC-45B2-A218-F47CF6A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173-D702-4F63-B8DD-4A4D2471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D4A-A925-42D1-B270-85729F7F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B5B-E895-4000-9785-6135F2D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570-5FDD-4D55-AABF-1697E6C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486-549E-436C-8324-6F6D523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5DD-4B8B-4E5B-8558-C45C6C3A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54F-D1F4-4DA3-8D13-FE78A22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F2D-651F-4EC4-825F-FCAF924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5EC-B689-4E9C-B960-42601D4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EE1-041C-402D-A306-87E143E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C1E-9181-4591-95DA-3489E67B24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89CA-EB88-451C-900B-8274B8BF08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633120" y="314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标题</a:t>
            </a:r>
            <a:r>
              <a:rPr b="0" lang="en-US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752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752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735360" y="3619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答辩人：某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564984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600696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30540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51996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6864480" y="-73980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64984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01020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630720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2140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86736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64984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00696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30540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51996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64480" y="-73980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9840" y="5162400"/>
            <a:ext cx="3349440" cy="0"/>
          </a:xfrm>
          <a:prstGeom prst="line">
            <a:avLst/>
          </a:prstGeom>
          <a:ln w="31680">
            <a:solidFill>
              <a:srgbClr val="ffc000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2400"/>
            <a:ext cx="3349800" cy="0"/>
          </a:xfrm>
          <a:prstGeom prst="line">
            <a:avLst/>
          </a:prstGeom>
          <a:ln w="31680">
            <a:solidFill>
              <a:srgbClr val="ffc000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6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400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-69840" y="5162400"/>
            <a:ext cx="104148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"/>
          <p:cNvSpPr/>
          <p:nvPr/>
        </p:nvSpPr>
        <p:spPr>
          <a:xfrm flipV="1">
            <a:off x="971640" y="2641680"/>
            <a:ext cx="1800000" cy="25207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2"/>
          <p:cNvSpPr/>
          <p:nvPr/>
        </p:nvSpPr>
        <p:spPr>
          <a:xfrm>
            <a:off x="6732720" y="2660760"/>
            <a:ext cx="934920" cy="250164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>
            <a:off x="7667640" y="5162400"/>
            <a:ext cx="158436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136-05A4-4FE8-BBA2-DCA5370D70E2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 rot="19164600">
            <a:off x="-847800" y="318960"/>
            <a:ext cx="36003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4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0" name="椭圆​​ 24"/>
            <p:cNvSpPr/>
            <p:nvPr/>
          </p:nvSpPr>
          <p:spPr>
            <a:xfrm>
              <a:off x="718020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25"/>
            <p:cNvSpPr/>
            <p:nvPr/>
          </p:nvSpPr>
          <p:spPr>
            <a:xfrm>
              <a:off x="84643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​​ 26"/>
            <p:cNvSpPr/>
            <p:nvPr/>
          </p:nvSpPr>
          <p:spPr>
            <a:xfrm>
              <a:off x="695628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​​ 22"/>
            <p:cNvSpPr/>
            <p:nvPr/>
          </p:nvSpPr>
          <p:spPr>
            <a:xfrm flipV="1">
              <a:off x="728964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3"/>
            <p:cNvSpPr/>
            <p:nvPr/>
          </p:nvSpPr>
          <p:spPr>
            <a:xfrm flipV="1">
              <a:off x="857340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8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8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6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1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4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8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09" name="椭圆​​ 24"/>
            <p:cNvSpPr/>
            <p:nvPr/>
          </p:nvSpPr>
          <p:spPr>
            <a:xfrm>
              <a:off x="71737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25"/>
            <p:cNvSpPr/>
            <p:nvPr/>
          </p:nvSpPr>
          <p:spPr>
            <a:xfrm>
              <a:off x="845784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26"/>
            <p:cNvSpPr/>
            <p:nvPr/>
          </p:nvSpPr>
          <p:spPr>
            <a:xfrm>
              <a:off x="694980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​​ 22"/>
            <p:cNvSpPr/>
            <p:nvPr/>
          </p:nvSpPr>
          <p:spPr>
            <a:xfrm flipV="1">
              <a:off x="728316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3"/>
            <p:cNvSpPr/>
            <p:nvPr/>
          </p:nvSpPr>
          <p:spPr>
            <a:xfrm flipV="1">
              <a:off x="856692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 rot="2700000">
            <a:off x="6352920" y="539640"/>
            <a:ext cx="360036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8" name="椭圆​​ 24"/>
            <p:cNvSpPr/>
            <p:nvPr/>
          </p:nvSpPr>
          <p:spPr>
            <a:xfrm>
              <a:off x="142884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5"/>
            <p:cNvSpPr/>
            <p:nvPr/>
          </p:nvSpPr>
          <p:spPr>
            <a:xfrm>
              <a:off x="271260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​​ 26"/>
            <p:cNvSpPr/>
            <p:nvPr/>
          </p:nvSpPr>
          <p:spPr>
            <a:xfrm>
              <a:off x="1204920" y="-902520"/>
              <a:ext cx="193032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​​ 22"/>
            <p:cNvSpPr/>
            <p:nvPr/>
          </p:nvSpPr>
          <p:spPr>
            <a:xfrm flipV="1">
              <a:off x="1537920" y="-1765800"/>
              <a:ext cx="1008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3"/>
            <p:cNvSpPr/>
            <p:nvPr/>
          </p:nvSpPr>
          <p:spPr>
            <a:xfrm flipV="1">
              <a:off x="2821680" y="-1765800"/>
              <a:ext cx="360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071800" y="2444760"/>
            <a:ext cx="4967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50920" y="336600"/>
            <a:ext cx="471024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124000" y="1963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燕尾形 14"/>
          <p:cNvSpPr/>
          <p:nvPr/>
        </p:nvSpPr>
        <p:spPr>
          <a:xfrm>
            <a:off x="-147636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4"/>
          <p:cNvSpPr/>
          <p:nvPr/>
        </p:nvSpPr>
        <p:spPr>
          <a:xfrm>
            <a:off x="48862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>Noah</dc:creator>
  <dc:description/>
  <dc:language>en-US</dc:language>
  <cp:lastModifiedBy>jccook</cp:lastModifiedBy>
  <dcterms:modified xsi:type="dcterms:W3CDTF">2015-02-06T02:04:0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