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920-8FB1-4BE9-8F2C-891D4C85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E01-8020-4E3A-BE35-737C8B69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14E-914B-4EF3-AE2F-005FC0A5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8D5-6D3E-4130-9656-FE475747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21F5-2F5F-431D-A1C2-FAACDF4D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F6F6-7EFE-4AF9-8DA9-E6438B01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E971-C0BD-43D0-9F0A-314B2941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7B40-E7B2-4A98-B171-11CECC22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B38C-8EC6-4D2C-B389-A6CD9ABE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B9EA-C51B-4170-8D57-7EAFCE11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DC4A-F6C1-49C0-AD3F-E435E6BC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A58-3713-4735-ADCB-23EFAABA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6CBB-D300-42E4-82EE-C26132E8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CBB9-25D1-4952-916F-00A5041D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32D4-A870-45E3-B217-0583786A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CE96-E554-40E4-A970-3B8C7E2F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433E-2DBF-480F-AB42-4A881B69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67D4-5927-4557-B3D9-C7B6934E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71E0-D31E-40F2-B937-0BDA90E0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E5C3-B17C-48CB-B5E1-00A39AE4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1E40-13DB-4F4B-BEAC-31AFC034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0172-82A0-49FC-AAB6-C38E3978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7F1-0C5F-499B-A95C-E9D42FBE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C842-490C-43C5-AB64-6CE7B2FE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C4F7-CBAA-416A-B1DE-130E9EB4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2A02-E20F-4C62-8951-8B3CF964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D930-2012-43FD-B0FE-7D0C1FC0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C734-391C-4A0F-8BDD-14B8E10B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0CC3-8414-4747-B7D2-D260D90B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D94C-ED5E-4313-AF99-FE97E775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BF92-7E37-4268-8B20-A102C31D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C5B7F-CBF2-424D-A2BD-50318098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5119-6C3C-412D-8157-39817469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BE4-C124-401C-8B1A-A8BC85AC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945E-3DD4-47FD-A547-F855D8E9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F1BA2-D3D2-4301-8C71-5C1BFF48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A2B9-75B0-43A9-9506-C2944C31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60E4D-700C-48A4-A8CC-F4658B67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DBDC-C567-44C4-943E-CECB2574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C117-8540-403B-8B0E-5219CED0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4C97-3A4C-4F5F-B31B-3F5467D8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0D7F-5B43-4C47-A622-319E17BE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6AC8-AD78-464B-BB62-F7CD0403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15B-1F55-42CA-9072-D883B2F4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E15-8CC5-482B-A4C8-4DC065F0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B9E-12BA-49C1-B025-6E972FC6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7E3-C364-4B32-8924-30377245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A7E-B227-488F-8D63-AB9E8AC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C76C-B2E8-4FE9-8F5D-2357259A6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4F0E-80DD-4426-B51E-68C4AB07B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B84-5785-40E1-8688-418D4C37C4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5040" y="6854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A5BC-C7A0-4E1A-9618-1A0ACD414A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校同心，</a:t>
            </a:r>
            <a:br>
              <a:rPr sz="8800"/>
            </a:b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师生同行</a:t>
            </a:r>
            <a:endParaRPr b="0" lang="en-US" sz="8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633680" y="4805280"/>
            <a:ext cx="604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东坡下载站编辑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2160" y="2133360"/>
            <a:ext cx="4647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学生现状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1﹑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学习成绩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  在学习上，初二是一个分水岭，一部分同学在初二进步很快，由成绩中等上升为优秀，但也有一部分学生存在畏难情绪，将心思用在学习之外，成绩迅速下降，对学习失去兴趣，自暴自弃，从此一蹶不振。这样的同学到了初三往往很难有所突破，中孝的失利难以避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这些孩子在初中学习将近二年，老本基本吃光了，但是有些孩子不肯吃苦，课堂上老师讲的知识还一知半解就满足了，自以为我会了，不在跟着老师讲课的步伐进行下去。真问到头上，支支吾吾说不出个一二三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流于作业形式，白纸画黑道，作业我写了，对与错是老师的事情，明显感觉写作业很盲目，没目标，对自己不负责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的学生学习本末倒置。有些科目应该温习课上知识后，再通过练习检查掌握的程度，然后弥补不足。但是他们只忙于书面作业，不会去翻书，翻笔记，只达到完成作业这一表面任务，力气没少用，效果不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学无章法，老师讲老师的，我做我的，有些孩子只学习自己感兴趣的学科，不均衡发展。而且有的孩子玩心太重，心思都在玩上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之所以学习成绩和优秀生落差很大，源于习惯极其不好，缺乏耐心、恒心、专心，即使大型公开课，大型活动，也都是我行我素，瞻前顾后，左顾右盼，这样的场合他都肆无忌惮，反映出长期的养成教育不足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不仅需要我们督促，作为父母的你们在日常生活中也要强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71800" y="9140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对家长的建议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895120" y="3580920"/>
            <a:ext cx="6985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从学校及教师的角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也许有偏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457200" y="1447920"/>
            <a:ext cx="81532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不做准备的人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就是准备失败的人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找准孩子学习的短板，要真正知道了解自己的孩子，在哪一学科是弱项。和其他孩子们横向、纵向比较一下，我究竟差到哪里，差到哪个学科，什么原因，并要积极应对，及时的查漏补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抓住学习的主次，比如数学 物理初二下学期知识逻辑性比较强，有的习题比较深，所以对于数学物理等学科的习题量一定要保证。并要保证即学即会，不留死角，不要单纯追求数量，而忽视做题的质量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长会的主题 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是介绍前阶段同学们在校表现和学习情况。结合本学期期中考试的情况，分析学生的学习和心理状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是和家长们探讨今后学生的教育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掌握学习方法。对于英语等学科，要夯实基础，无论学习时间怎么紧张，必要的英语单词，最基本的句型，语法，都要熟练掌握，达到零失误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政治历史等学科，要充分利用课堂的主阵地，把考点要及时的勾画好，积累好，以备考试之用。同时也要利用一定的时间对阶段学习内容进行复习。从而保证在闭卷考试的时候，能有一定的知识储备。在开卷考试时能够积累全面知识点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语文学科，要训练好孩子把握基础知识的能力，各类的书上的文言文，古诗词，老师要求背好记好的，一个字也不能差。同时也要鼓励孩子认认真真的去完成老师布置的作文和阅读，掌握阅读和作文的能力。考试的时候不发慌，等心应手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正确看待孩子的学习成绩。有的孩子学习各科成绩不算太高，比如说能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分 但是很难达到高分，这样的孩子还有很大提升的潜力，所以就要帮助孩子找出出现差距的原因。而不要一味的指责。有的孩子可能学习成绩差点，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0-9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这个时候到了学业临界点，所以家长就要携同老师全方位的，对各学科学习进行监控。严防持续下滑的现象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保证家中一切为孩子的学习让路，例如四平市实验中学高考状元的班主任在谈体会的时候说，孩子回家的时候一般情况下应该有一位家长在家，让他感觉到一种依靠，使他能够全身心的投入到学习当中。中午孩子回家要及时吃上饭菜，保证孩子有合适的休息时间和空间。从而保证孩子学习充沛的经历。这个时候我们家长有的时候做些必要的牺牲，对于意义不重大应酬活动尽量避免参加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关注孩子的日常表现，防止思想出现波动，家长和孩子之间要建立互信，保持经常的有效沟通。比如说有的孩子情绪低落，那么要弄清楚什么原因造成，是不是和同学发生矛盾还是被老师误解啊，还是学习上遇到了困难，家长都要在第一时间掌握情况，做好疏导。如果发现孩子近期在某个时间段爱美，总是特别注意自己的仪表，上学前在镜子旁边照个半天，没事发呆，情绪无常，这个时候家长要和老师及时的沟通，是不是孩子出现感情问题，因为这个阶段正是青春期，以便及时应对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关于安全问题。掌握放学时间　规定到家时间，很多学生放学在街上游荡，容易接触社会青年，不给过多零花钱　，不允许到朋友家过夜，尤其周末，不带贵重物品到校，例如手机，提醒安全过马路，严查抽烟现象，放在课后班的家长也不要撒手不管，要及时和老师保持联系掌握放学时间，有家长接送的还好，要是不接送的容易出现差错，老师这放学了，结果孩子没回家去哪里玩，可是家长还以为在老师这上课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培养孩子吃苦耐劳的精神。初二属于攻坚阶段，初三属于冲刺阶段，虽然我们将来面对的是高考，但是初中阶段的成绩，对于一个人的知识储备和未来形成的心理暗示，非常的重要。如果中考取得好成绩孩子就会在学习上有种优越感，到高中也会形成自信，进取的学习状态，认为我能行，而不是我不行，我不如别人。神童和特殊的尖子生毕竟是少数，绝大多数的孩子还需要有铁杵磨成针的精神。家长要保证孩子晚上必要的学习时间。我感觉中午要是午睡的话，晚上学习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没什么问题。这样到初三就能适应这种学习生活，到高中更会适应。现在的学习不能是只写完作业就完事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要严格规范孩子的学习习惯。平时做的习题要保证步骤完整，书写规范，不似是而非，培养孩子答题精准的习惯。会的题要做对。到了这个时候应该尽量不能出现马虎现像。不要从孩子历次考试的失利中单纯的寻求客观原因，而忽视主观因素。要知道考的不好只能证明平时学的不好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每周找一定时间和孩子聊一聊各科学习上有什么问题，给孩子创造良好的学习环境，多鼓励孩子，多与孩子一同学习。哪怕不是经常性的沟通，聊天，那么对于孩子也是莫大的鼓励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68580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排名榜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33720" y="3886200"/>
            <a:ext cx="4459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种瓜得瓜 种豆得豆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838080" y="76212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加强与老师的联系。个别学生不愿意与家长交流，尤其不想和家长说学校里的情况，这样一来，家长往往不能从孩子那里知道他们最近的表现和变化，这就需要家长能够经常和老师联系，了解孩子的全面情况，就一些问题和老师沟通，双方合作，为孩子保驾护航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掌握好孩子的上学时间 早上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，中午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注意孩子的衣着，男生不留长发，女生不穿时髦衣服，不许带首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努力一定会有成效，放弃必定要失败，无论什么时候都要对自己的孩子有信心，只是在家长的心目当中一定要找准孩子发展的目标换和方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0520" y="1218960"/>
            <a:ext cx="8078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 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家长们，我们的目标是统一的，我们的任务是一致的，愿我们相互合作，把我们的学生，您的孩子，培养成学习勤奋，品质优良的优秀人才，为将来学生的升学、就业、乃至整个人生的发展打下坚实的良好的基础。在此衷心祝愿我们每一个孩子健康成长，每一个家庭幸福平安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312408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4894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4" name="矩形 7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1625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期中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，前三名是咱班的。第一名付晏升、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二名张效明，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三名孙璐瑶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第五名佟彩瑜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六名 王子越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7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 咱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0---119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8---1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---1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 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2---1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—10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43000" y="91440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1.5---1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9.5—106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6---10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4.5—103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3—10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95280" y="76212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语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9---11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7---115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—11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3.5—110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5335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英语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--9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8—9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5—9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62120" y="8380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政治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历史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10Z</dcterms:created>
  <dc:creator>Administrator</dc:creator>
  <dc:description/>
  <cp:keywords/>
  <dc:language>en-US</dc:language>
  <cp:lastModifiedBy>Sky123.Org</cp:lastModifiedBy>
  <dcterms:modified xsi:type="dcterms:W3CDTF">2015-03-30T01:35:14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