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gif" ContentType="image/gif"/>
  <Override PartName="/ppt/media/image7.jpeg" ContentType="image/jpeg"/>
  <Override PartName="/ppt/media/image8.png" ContentType="image/png"/>
  <Override PartName="/ppt/media/image30.gif" ContentType="image/gif"/>
  <Override PartName="/ppt/media/image28.gif" ContentType="image/gif"/>
  <Override PartName="/ppt/media/image10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5.png" ContentType="image/png"/>
  <Override PartName="/ppt/media/image9.jpeg" ContentType="image/jpeg"/>
  <Override PartName="/ppt/media/image31.png" ContentType="image/png"/>
  <Override PartName="/ppt/media/image25.gif" ContentType="image/gif"/>
  <Override PartName="/ppt/media/image6.jpeg" ContentType="image/jpeg"/>
  <Override PartName="/ppt/media/image4.wmf" ContentType="image/x-wmf"/>
  <Override PartName="/ppt/media/image1.jpeg" ContentType="image/jpeg"/>
  <Override PartName="/ppt/media/image27.gif" ContentType="image/gif"/>
  <Override PartName="/ppt/media/image14.gif" ContentType="image/gif"/>
  <Override PartName="/ppt/media/image17.gif" ContentType="image/gif"/>
  <Override PartName="/ppt/media/image18.wmf" ContentType="image/x-wmf"/>
  <Override PartName="/ppt/media/image2.gif" ContentType="image/gif"/>
  <Override PartName="/ppt/media/image32.gif" ContentType="image/gif"/>
  <Override PartName="/ppt/media/image19.jpeg" ContentType="image/jpeg"/>
  <Override PartName="/ppt/media/image20.gif" ContentType="image/gif"/>
  <Override PartName="/ppt/media/image21.png" ContentType="image/png"/>
  <Override PartName="/ppt/media/image22.gif" ContentType="image/gif"/>
  <Override PartName="/ppt/media/image23.gif" ContentType="image/gif"/>
  <Override PartName="/ppt/media/image2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8AD-602A-46D8-A1AD-9008E344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93A-6DF0-4A94-96CB-EF11328B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7B1-5A4A-48E6-9370-BF52C61F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BE0-D371-4942-A621-65685B54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06E-8F7C-49B7-84B5-438F868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062-6BF2-43A9-B4D9-CB765E7A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A76-B369-49D9-928B-8C0A15D4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178-194B-4655-9B45-463D207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B42-FCFA-4C2F-B0C8-F641AE8B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D8F-311B-442D-857A-BBB575EE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FEC-F98F-4D9D-AC54-6A139653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D99-E3F8-4791-B17A-29217B7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1341-9F5A-4CC6-BC7D-32F2B29DF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836640"/>
            <a:ext cx="8774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离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2013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年高考仅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130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919600" cy="3076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68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   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考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和地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、知识漏洞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54936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 advTm="15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 advTm="15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3500280"/>
            <a:ext cx="82868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高三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(11)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44720" y="1197000"/>
            <a:ext cx="6984720" cy="3024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43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放飞希望</a:t>
            </a: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沟通无限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130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高考实行“三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综合”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满分：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三：语文、数学、外语（各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），共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历史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地理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政治计入高考成绩，共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—百日誓师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广东省省一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中旬二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考前心理调整。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87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7440" y="4869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2360" y="1052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在思想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27160" y="33336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6720" y="44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生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合理安排饮食，注意补充营养关心照顾，身体是革命的本钱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提醒孩子注意安全（交通安全、运动安全、饮食安全等），保证学生按时作息，不要因晚上学习时间过长或看电视无度、睡眠不足影响第二天学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抓好子女在家的行为习惯。如良好的休息、科学的安排学习、适量的家务劳动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333360"/>
            <a:ext cx="8569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学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长能够教育孩子在上课时专心听老师讲课，不懂就是不懂，要虚心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调“认真”二字。少做最好不做与学习无关的事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社会需要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各种各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人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有能力，任何一个学生都能在社会上立足，并且成就一番事业。科学的分析子女的成绩档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与其他同学作比较，而是着眼于自身的比较。比较前后几次考试，看是否退步，原因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73408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高三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(11)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500"/>
                                  </p:iterate>
                                  <p:childTnLst>
                                    <p:animMotion origin="layout" path="M -0.07084 0.00301 L -0.90556 0.01364 E">
                                      <p:cBhvr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50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52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63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7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7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2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8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8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9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08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56000" y="5518080"/>
            <a:ext cx="384480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50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3628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基本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在校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考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存在的问题及下一阶段工作思路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fxzm</dc:creator>
  <dc:description/>
  <dc:language>en-US</dc:language>
  <cp:lastModifiedBy>USER</cp:lastModifiedBy>
  <dcterms:modified xsi:type="dcterms:W3CDTF">2013-01-25T08:43:48Z</dcterms:modified>
  <cp:revision>1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