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wmf" ContentType="image/x-wmf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16.gif" ContentType="image/gif"/>
  <Override PartName="/ppt/media/image28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40.jpeg" ContentType="image/jpeg"/>
  <Override PartName="/ppt/media/image30.png" ContentType="image/png"/>
  <Override PartName="/ppt/media/image25.gif" ContentType="image/gif"/>
  <Override PartName="/ppt/media/image31.gif" ContentType="image/gif"/>
  <Override PartName="/ppt/media/image11.jpeg" ContentType="image/jpeg"/>
  <Override PartName="/ppt/media/image35.gif" ContentType="image/gif"/>
  <Override PartName="/ppt/media/image9.jpeg" ContentType="image/jpeg"/>
  <Override PartName="/ppt/media/image33.gif" ContentType="image/gif"/>
  <Override PartName="/ppt/media/image34.gif" ContentType="image/gif"/>
  <Override PartName="/ppt/media/image37.gif" ContentType="image/gif"/>
  <Override PartName="/ppt/media/image38.gif" ContentType="image/gif"/>
  <Override PartName="/ppt/media/image43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42.gif" ContentType="image/gif"/>
  <Override PartName="/ppt/media/image5.wmf" ContentType="image/x-wmf"/>
  <Override PartName="/ppt/media/image44.gif" ContentType="image/gif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3.gif" ContentType="image/gif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6.png" ContentType="image/pn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E56-013F-42B5-9D6F-CAA58AD1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E7F-C377-4192-9C8A-73202BAD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DCE-3A45-4703-9004-79A90328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381-0A00-4DF1-8AAC-33D13C17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0B4-D813-4A91-AC19-F1B4CB5E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B26-3EA0-4C02-99E9-D964CEE4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938-AC42-40FF-B293-B378CD8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FE9-CFFB-4D3B-AEFC-EF62EE2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AE5-05BB-4EC2-BD98-F71978ED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F9F-E4C4-42D3-90A8-5E76EBF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A38-35EA-44D1-A63C-799177B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BCE-71C9-4E96-A20B-E2F21693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DAC5-E664-4039-8B8D-654F2CCD5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../Local%20Settings/Temp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../Local%20Settings/Temp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../../Administrator/My%2520Documents/kejian/unit3huo.ppt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0960" y="0"/>
            <a:ext cx="60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</a:rPr>
              <a:t>温馨提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2420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6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xxx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73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40600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我班在这次联考中，继前三次月考后又一次取得稳中略有上升的成绩，其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领先位置，尤其是     学科取得了班均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前     名位置。但各科发展不平衡，尤其是中等学生的学科发展不平衡现象较严重，主要表现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等学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724120"/>
            <a:ext cx="8286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XX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1052640"/>
            <a:ext cx="7034400" cy="2705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放飞希望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沟通无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141560"/>
            <a:ext cx="9144000" cy="914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联考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记录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9999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”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—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5661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X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中高三     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406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136" name="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4560" y="304920"/>
            <a:ext cx="8569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0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0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1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6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2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5715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5000"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3178080"/>
            <a:ext cx="711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133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架起心灵沟通的桥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孩子们的健康成长共商教育教学大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微软用户</cp:lastModifiedBy>
  <dcterms:modified xsi:type="dcterms:W3CDTF">2015-11-18T01:31:27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