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FD1-19E2-42BF-B641-A6BA96D0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1C5-A59F-4EFE-8B5E-B6DECB8A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D9E-4287-415D-A92F-102FD7C6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E1D-A589-4384-BC3C-416CB4CE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3EF-AD62-4B76-9C16-CDA85672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47C-9675-4EF2-BFC6-1A0DC757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C9C-37DB-46A5-9F6E-103AA5D0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FB4-BC2B-4EDD-855E-EE6D21EA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CC0-7ECD-472D-ACDC-4A27705E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4E1-30FA-43C0-92E9-390BA019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244-8319-4672-8527-0AC3BDA0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EA4-F9EF-4F20-A1B5-8F54FF76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D02B-082C-4E72-9A4A-66BB86EDFE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608472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6000" y="0"/>
            <a:ext cx="4788000" cy="2421000"/>
          </a:xfrm>
          <a:prstGeom prst="wedgeRoundRectCallout">
            <a:avLst>
              <a:gd name="adj1" fmla="val -44861"/>
              <a:gd name="adj2" fmla="val 55180"/>
              <a:gd name="adj3" fmla="val 1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欢迎光临，二（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）班的小朋友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4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32000" y="3068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1413000"/>
            <a:ext cx="3889440" cy="825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吃的鸭蛋放在嘴里，但不能吃，这滋味太难受了，狐狸只能用舌头轻轻舔着鸭蛋，解解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把舌头卷起来，让鸭蛋在上面慢慢地滚来滚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2852640"/>
            <a:ext cx="2735280" cy="119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玩得高兴，肚子好像也不饿了，他还发明了很多用舌头玩鸭蛋的游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210b"/>
                </a:solidFill>
                <a:latin typeface="Arial"/>
              </a:rPr>
              <a:t>他用舌头</a:t>
            </a:r>
            <a:r>
              <a:rPr b="1" lang="zh-CN" sz="5400" spc="-1" strike="noStrike">
                <a:solidFill>
                  <a:srgbClr val="f5210b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5210b"/>
                </a:solidFill>
                <a:latin typeface="Arial"/>
              </a:rPr>
              <a:t>（          ）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11640" y="2749680"/>
            <a:ext cx="4932360" cy="45972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一天，狐狸突然被一个声音惊醒，他连忙把鸭蛋吐出来，蛋上竟然有了裂痕！没多久，一只湿漉漉的小鸭子从里面钻出来。狐狸的美梦成真了！他激动得连话都说不出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2708280"/>
            <a:ext cx="8569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他终于可以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59280" y="1628640"/>
            <a:ext cx="504000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想到，小鸭子忽然朝着狐狸的鼻尖冲过来，叫着：“妈妈，妈妈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狐狸吓呆了，结结巴巴地说：“我，我不是你的妈妈，我，我，我是男的，只能做爸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300640"/>
            <a:ext cx="446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爸爸！爸爸！”小鸭子爬上狐狸的鼻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2276640"/>
            <a:ext cx="22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3429000"/>
            <a:ext cx="388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爸爸！爸爸！”小鸭子爬上狐狸的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221000"/>
            <a:ext cx="4103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爸爸！爸爸！”小鸭子咬住狐狸的耳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6021360"/>
            <a:ext cx="4103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狐狸闭上眼睛，真不知道该怎么办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492360" y="1916280"/>
            <a:ext cx="3095640" cy="30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5210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0">
                <a:noFill/>
              </a:ln>
              <a:solidFill>
                <a:srgbClr val="f5210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2637000"/>
            <a:ext cx="377964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爸爸，我饿。”小鸭子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也饿。”狐狸用爪子一把将小鸭子扫进自己的大嘴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35640" y="4575240"/>
            <a:ext cx="460836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啄着狐狸的舌头，狐狸疼得张大了嘴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说：“爸爸，以前我在蛋壳里的时候，你天天就是用它摇着我睡觉的，对不对？好舒服哦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4968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从狐狸嘴里爬出来，“爸爸，我饿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狐狸叹着气，从旁边摘了一些野莓给小鸭子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4716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吃得肚皮圆滚滚的，把头钻到狐狸的爪子底下，睡眼朦胧地说：“谢谢你，爸爸，我好爱你，爸爸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0"/>
            <a:ext cx="4067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看着小鸭子可爱的睡相，狐狸一边吃着剩下的野莓，一边自言自语：“其实，野莓也挺好吃的，吃久了，感觉比肉还好吃呢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6360" y="256536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野莓怎么会比肉还好吃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64920" cy="43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19640" y="0"/>
            <a:ext cx="3924360" cy="1373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会游泳的狐狸用绳子帮着自己，手拿树叶，陪小鸭子游泳，他们还张嘴大笑，真是滑稽极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       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       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可是，本来狐狸是要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可现在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______,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是因为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56000" y="1125360"/>
            <a:ext cx="4788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想：“少了顿大餐，多了一个儿子，我这只聪明的狐狸怎么干了一件糊涂的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20640"/>
            <a:ext cx="38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你看我多善良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56000" y="790560"/>
            <a:ext cx="42865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因为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把小手伸出来，让它透透气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把小脚踢出来，让它散散步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把小屁股钻出来，让它乘乘凉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你一个喷嚏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吓得爸爸跳了起来 惊醒了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看着你的睡相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爸爸心疼得把你的小手、小脚、小屁股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个一个藏进暖融融的被窝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于是，香甜的梦又开始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220" dur="953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41200" y="259920"/>
            <a:ext cx="62024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一棵参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(c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ā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n)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天大树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就是他身旁的小树苗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广阔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(ku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ò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的天空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就是他洒下的雨滴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(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ī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温暖的太阳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就是他身上的光芒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蔚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(w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è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i)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蓝的大海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是海上漂泊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(b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的小船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永远在他的心中飘荡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在我生病的时候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他就是一只啄木鸟，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把树洞里的小虫全部吃掉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他就是我那美好的回忆，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我想对他说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爸爸，我爱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55600" y="54936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1197000"/>
            <a:ext cx="352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写给爸爸的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3203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9788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0000" y="404640"/>
            <a:ext cx="7417080" cy="18003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会游泳的狐狸用绳子帮着自己，手拿树叶，陪小鸭子游泳，他们还张嘴大笑，真是滑稽极了！这幅画小孩子看了会陪陪笑，可是爸爸，妈妈看了会滚泪——只有他们知道，付出本身即是快乐，这点只有父母对孩子才能无怨无悔地做到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同学们让我们爱我们的爸爸，妈妈吧！是他们抚养我们长大，是他们陪我们玩耍，是他们在我们摔倒的时候安慰我们！让我们像鸭儿子一样甜甜的叫一声爸爸，妈妈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240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48956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作业：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画一画，写一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000" y="2204640"/>
            <a:ext cx="454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《狐狸爸爸的幸福生活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《 鸭儿子的幸福生活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《我的幸福生活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（三选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4716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我请你们吃大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537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36529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88000" y="0"/>
            <a:ext cx="435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狐狸肚子饿了，就到处找东西吃。他来到河边的草丛里，东翻翻，西找找，竟然发现了一个大鸭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299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4643280" cy="5814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狐狸一个箭步跑上去抱住鸭蛋，迫不及待地把它放进嘴里，刚要一口咬下去，脑袋里却有个声音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404640"/>
            <a:ext cx="302400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是想吃鸭蛋呢，还是想吃肥嘟嘟的小鸭子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6370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怎么选择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27280" y="333360"/>
            <a:ext cx="53294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是，狐狸决定把鸭子孵出来，大吃一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刚一屁股坐到鸭蛋上，就立刻跳起来，“这样会不会把蛋压破了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灵机一动，想出一个好主意。他在地上挖出一个洞，在洞里铺上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51280" y="0"/>
            <a:ext cx="52927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把鸭蛋放进塞满草的洞口，前爪和后爪紧紧趴在洞的前，后方，只有软软的肚子轻轻的压在鸭蛋上。这个主意看起来不错——既能给鸭蛋保暖，又不会把它压破。可是，这个姿势就像受苦刑，还不到五分钟，狐狸的四肢就酸的受不了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4788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又想出一个好主意，他捡了一条长长的树皮当绳子，用它把鸭蛋紧紧的绑在肚皮上，狐狸为自己的小聪明感觉得意洋洋的，可没想到，在追兔子的时候，树皮绳子一松，差点把宝贝蛋给摔破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64000" y="189000"/>
            <a:ext cx="3240360" cy="2519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4500720" cy="78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狐狸气坏了，他把鸭蛋放进嘴里，心想：“干脆一口吃掉算了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忽然，又一个好主意冒了出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0"/>
            <a:ext cx="457200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狐狸先用草给自己铺了一个巢，然后学鸭妈妈那样坐在巢里，又开始努力孵蛋，只是这回他没有用自己的肚子，而是把鸭蛋含在了嘴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为嘴里含着鸭蛋，狐狸没法儿追捕小动物，只能摘些身边的野果，野莓来充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他自言自语的说：“唉，我怎么成了一只吃素的狐狸了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2492280"/>
            <a:ext cx="43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19640" y="1341360"/>
            <a:ext cx="90612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6:50:24Z</dcterms:created>
  <dc:creator>SUN</dc:creator>
  <dc:description/>
  <dc:language>en-US</dc:language>
  <cp:lastModifiedBy>User</cp:lastModifiedBy>
  <dcterms:modified xsi:type="dcterms:W3CDTF">2013-09-13T01:45:18Z</dcterms:modified>
  <cp:revision>16</cp:revision>
  <dc:subject/>
  <dc:title>幻灯片 1</dc:title>
</cp:coreProperties>
</file>