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7E53-0253-4137-882F-1A5C479C2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43DC-2253-45D2-B303-0A2C3972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2B44-ABB9-43D1-B5E4-BC459490D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3923-0875-4CEC-9CA3-0C261A8AF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5767-9D3E-409A-A9D6-2E3EFCFC5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F448-EEBD-4EF7-8E31-5ABAFC20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51EC-3186-4E47-A864-A6E18CDC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BCCE-B56C-4F90-BD7F-5BE00954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0F52-915F-4D70-8488-5D98B630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A21F-A6D1-4D3B-9DF2-6CABECC9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4B39-679D-4CBA-83A8-CDFB9A52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355F-7B77-4D4C-ACCB-3D3DD51D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5BF4-7DAC-4233-BBB7-93DFCB20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F113-024C-48C7-AC18-7A9F131D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6A3A-0CD3-4A10-9BBD-7703C3C8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587B-1DA3-4A53-A13B-5C021E239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5CB6-1780-4F84-A213-7ECD5B581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51F9-7143-4D2D-9391-EFAADC5F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06F9-06BD-4B1A-BC1B-EEEAEB85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AEFE-4D1F-4501-8878-A57EECA1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6793-D13C-4356-A4F1-62FEF3F3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E47E-2D9C-417D-BFBA-6AA50145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A572-2587-4BE8-B946-C2F2AB2D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F7AE-A993-44EF-BDA9-3E752F63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D620-496C-4361-8DAC-61D4E8DF851D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CC1D-96B7-49DF-AB4A-212AB4D71439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28600" y="304920"/>
            <a:ext cx="87631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击杀器是一款绿色免费软件，解压之后，即可运行于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windows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操作系统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软件有以下两大功能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      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一、</a:t>
            </a:r>
            <a:r>
              <a:rPr b="1" lang="zh-CN" sz="1600" spc="-1" strike="noStrike">
                <a:solidFill>
                  <a:srgbClr val="ffffcc"/>
                </a:solidFill>
                <a:latin typeface="Verdana"/>
              </a:rPr>
              <a:t>瞬间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自动关闭指定类型的网页，如弹出广告、病毒网页等任何你讨厌的网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      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二、类似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QQ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裁图的功能，比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QQ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更方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    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关于关闭网页功能：本软件支持所有基于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IE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内核的浏览器，如：微软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IE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浏览器、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360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浏览器，对搜狗、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QQ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、世界之窗三款浏览器，需在地址栏切换成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IE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内核才有效，如下图所示（带图形字母‘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E’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的地方点一下便能切换浏览器内核）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38080" y="3733920"/>
            <a:ext cx="3505320" cy="19555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342800" y="60199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cc"/>
                </a:solidFill>
                <a:latin typeface="Verdana"/>
              </a:rPr>
              <a:t>软件的具体操作，在下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15228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一、从你讨厌的网址截取一部分，比如从“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http://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www.</a:t>
            </a:r>
            <a:r>
              <a:rPr b="1" lang="zh-CN" sz="1600" spc="-1" strike="noStrike">
                <a:solidFill>
                  <a:srgbClr val="ffcc66"/>
                </a:solidFill>
                <a:latin typeface="宋体"/>
              </a:rPr>
              <a:t>6cpm.com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/2010/20100923123.ht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m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，复制“</a:t>
            </a:r>
            <a:r>
              <a:rPr b="1" lang="zh-CN" sz="1600" spc="-1" strike="noStrike">
                <a:solidFill>
                  <a:srgbClr val="ffcc66"/>
                </a:solidFill>
                <a:latin typeface="宋体"/>
              </a:rPr>
              <a:t>6cpm</a:t>
            </a:r>
            <a:r>
              <a:rPr b="1" lang="en-US" sz="1600" spc="-1" strike="noStrike">
                <a:solidFill>
                  <a:srgbClr val="ffcc66"/>
                </a:solidFill>
                <a:latin typeface="宋体"/>
              </a:rPr>
              <a:t>.com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，然后粘贴到击杀框里，以后只要浏览器的地址栏包含“</a:t>
            </a:r>
            <a:r>
              <a:rPr b="1" lang="zh-CN" sz="1600" spc="-1" strike="noStrike">
                <a:solidFill>
                  <a:srgbClr val="ffcc66"/>
                </a:solidFill>
                <a:latin typeface="宋体"/>
              </a:rPr>
              <a:t>6cpm.com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字眼的网址，便会瞬间自动关闭。有多个关键字，以“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|”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隔开，输入过程中系统会实时自动保存，示例如下图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2280" y="2987640"/>
            <a:ext cx="82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点右上角的最小化，网址击杀器就会缩到桌面右下角（下图左边第一个图标），把鼠标放上去，双击或者单击右键，就可以对软件进行打开主界面或退出的操作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3886200"/>
            <a:ext cx="84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00"/>
                </a:solidFill>
                <a:latin typeface="宋体"/>
              </a:rPr>
              <a:t>操作流程：运行本软件，编辑击杀框里的字符（没有新增、删除、修改则不用动它），最小化窗口，结束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4267080"/>
            <a:ext cx="8076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二、运行击杀器之后，按下键盘上的“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screen print”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键，也就是屏幕打印键，鼠标会变成十字架，拖动鼠标，选择你看中的区域，松开鼠标，就会有提示“复制”“保存”“取消”三项功能处理你选择的这块区域形成的图片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00"/>
                </a:solidFill>
                <a:latin typeface="Verdana"/>
              </a:rPr>
              <a:t>按下</a:t>
            </a:r>
            <a:r>
              <a:rPr b="1" lang="zh-CN" sz="1400" spc="-1" strike="noStrike">
                <a:solidFill>
                  <a:srgbClr val="ffff00"/>
                </a:solidFill>
                <a:latin typeface="Verdana"/>
              </a:rPr>
              <a:t>screen print</a:t>
            </a:r>
            <a:r>
              <a:rPr b="1" lang="zh-CN" sz="1400" spc="-1" strike="noStrike">
                <a:solidFill>
                  <a:srgbClr val="ffff00"/>
                </a:solidFill>
                <a:latin typeface="Verdana"/>
              </a:rPr>
              <a:t>之后，若你不想裁图了，单击鼠标右键即可退出裁图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5486400"/>
            <a:ext cx="807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00"/>
                </a:solidFill>
                <a:latin typeface="Verdana"/>
              </a:rPr>
              <a:t>所有的操作都有非常明显的提示，根据提示一步步做下去即可，速度超快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14400" y="3505320"/>
            <a:ext cx="2514600" cy="3808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990720" y="3581280"/>
            <a:ext cx="380880" cy="304920"/>
          </a:xfrm>
          <a:prstGeom prst="ellipse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5790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6-11T16:04:39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