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26B-098A-4065-A2E4-300FB8EA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1D3-6387-4759-97F3-C046FF6B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60229-096B-4647-A8BE-B28D9367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233F5-9E66-4AFF-970B-72935515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08134-D574-476B-9C97-5DA3E6FD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D7809-3EE8-41D9-B4D9-40677C1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67B5F-5334-4CFE-A3DD-5482051D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BDEAC-311A-4792-B5C2-A04B060B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0201A-DE29-42CB-B700-5A5DB7E3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5A031-D7F9-40E0-9613-0198DF64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7B3F8-AEC7-41FE-AF5F-4AC4876C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2111E-52A0-480B-8F8D-D6D67AEA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661-625A-49B3-865B-1966969C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AACFC-E925-4542-B370-7D8BD798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4FADB-9233-4C96-8817-30813E6F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013D2-6E2F-43BC-998E-40A799DC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5678F-72F6-446B-B4FA-3689FB1E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3E2CF-3636-4A80-9CA1-CF37A73E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8B439-344E-4BCE-9BE1-90C182AF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3FF9C-E11D-491E-90EB-5F0B57D9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316AB-5D19-4FD8-8E1D-06087D7E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99BAA-2B61-4DDF-91FB-8E5D4E76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B5037-2ACB-45C2-8AC8-D7DB6CBB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75F-26E7-4698-BA76-C34B103E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E4BD4-E21C-4D04-A06F-3F8FFFFE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F59A0-635E-4AD7-B52F-3022D897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1DA68-74DF-4A5D-A592-BC0364A1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7FBF8-4D9A-4EB1-B1F8-CF5416C3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C2B2C-C535-4757-9BD0-3023B18D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5792E-F999-4A49-A645-8F6CC461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85FC5-15B2-4DC3-B943-F589E74A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CA6E3-4370-44E7-BEC4-F472B50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082F8-6932-44D1-A375-52DEF764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DBEDB-AC30-4D69-99AC-28CB91B0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A584-8AC8-48F0-98B1-27F4E26F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ACECE-810A-41EA-BC79-633A03ED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28E12-F200-46D5-815B-3F234C41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D7D43-21E7-4AE7-B97A-51F3E8ED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CAB07-498A-4340-87DA-A97F31BB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116A8-0158-4C7F-A518-47A27829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D8649-78DD-42D7-BCC9-4158EB5B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C4502-A626-48FC-9BA4-1A27A16F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1C629-FBB3-4905-9C54-199C0DAE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DE3DF-7384-4138-B801-9D38C72E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00C46-60C9-4BEC-9A99-360B6BDA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C87A-73CE-4341-AC97-31112994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A09F5-6353-4DCC-BEEF-72244D40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515B3-0FA4-42FE-ADA5-C3D1BF6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B42C5-C4AB-4DF6-8F69-F52BFBF7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ECC5A-F449-4D93-BF82-5CA5A719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972C8-5B3A-4214-97AA-EE28D2EB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0951F-F328-4CDF-ADB5-8296E120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6C32A-46DB-4CAA-9AD8-1D21D10D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DC4FC-E347-4795-B055-09C8DF59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D3389-45E0-44D7-BC02-1388BAC5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169E2-B2FE-48E9-B778-09D34BC8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F6E1-9667-4CA9-AED4-43E22EF9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CB725-CD83-43BB-B571-2B88628D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20EE2-50E0-4D68-BC84-150459EB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63F4B-DC12-49FB-979F-555C8685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CED89-B546-46B2-82E5-4A230FC9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BF83D-227C-49F4-AE3C-CDEE34A8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42F14-4588-4EBB-A197-2C46F9FB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052A0-0C81-41A4-867C-0013AD75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434E-379D-43FE-87D4-3A066D24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93F3-1BDB-49D6-AFFD-9980877A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2B81-9A6D-44EC-BD7B-F97824BD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6D4A-A9B6-48FD-9199-D35AECD3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DE7-2A9B-40C0-989D-8F8FF300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81DD-A2E6-4947-9AFD-3DE055C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BFCC-4CBD-443B-9172-77F4711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664E-FE83-446A-8760-751EC39B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AC4A-1170-46DB-B622-43120A2A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C1E8-E49C-4FC1-BA4B-C245907B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2F7A-DF73-4F3F-B1CC-ED286F1B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F2D9-6724-49CE-9364-D2CE0535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9883-D741-455B-BE45-E0CEE7FC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C39C-F62E-4461-8CCA-27D2B04C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C79F-99FB-4098-BD23-4C09C7F2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CD0-E520-4292-A9B6-5BD56964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ECE86-12B6-4C8C-B60B-55E44B2C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F692-8A43-4BB0-84AB-4B9992E3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C64E-71D2-495C-A627-2A213C46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6B03-D66D-4D82-9375-984DABD4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1CF04-873E-4147-9C00-B236E391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2E9D3-6A22-4E16-94B4-560E32D1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2756-1F05-493D-B497-C3BD1C09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B9BE2-8AF6-4396-B393-5C12413A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5C1D-B3DC-4715-8FB2-B17AE7DE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A9CB9-D9E1-42C3-B156-340D8AFC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476-FDE3-433F-AA57-599EE1E4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3304-5281-40BC-98C2-6E962510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4261E-0888-484E-938F-521646C0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6325-8B28-49E3-858D-BD86D9FC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0915A-C310-4342-A6F9-1625C958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9375-C2C1-4650-94E8-AEB01479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0D39-B26A-436B-AB54-C7991F3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DDC34-2FA7-4D73-BF13-96B9D33C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F7048-230E-47F8-8383-4A00C4C2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FA35F-6DC5-4837-A26E-E2F5DCAB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F654C-C91F-403F-B873-1B5E3BD9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95B-B8B8-4254-8805-67605D33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E5B71-3868-41E3-B260-40E89B47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08F64-0B4C-4655-994A-0D18E422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ED554-5171-48DC-AD87-DBCF9FC9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9D1BF-7B95-419B-8504-A176F507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D5FDF-64D8-4BE2-AE77-1B9737CC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E1DF8-6F32-4858-BBBE-7937030E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148B1-D85E-4553-9B40-D467FDCA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8F835-CF56-485B-90A6-F997AB3F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DF5A-9A0B-4054-98BB-19016B3A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D570E-115A-47DC-8BDB-5E31BD6F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ED2-11EA-4D94-A7DB-64B91634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2A4B-6ED0-4D94-97CD-30111550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34851-73FC-44DD-B7EA-160B7484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8B6C8-8C53-4C52-B523-595907B6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CDC80-5600-47F9-81F8-803D1E25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792AE-EE06-44C8-844A-B5BFB5C5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4676D-6977-4D7B-AFB7-21A573E0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7CBD6-38CC-419A-8531-6929B05F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89504-5281-462E-B53E-A96B75E5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67281-C0AD-4F6A-A594-74824841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2E6E0-4090-459B-B0F6-D9B1948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34D-0835-46B6-94AB-EF988F14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AC2DE-2DD1-42EF-BB01-EFFD27A9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1DC08-01ED-4AED-9625-B40F6A90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3BEC-6DF8-4D95-B1A8-2D9C26D3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A532D-A910-427D-A989-89943737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EE199-D1CF-4505-831D-D789C34A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6B787-ADCF-435D-AC88-94DC8569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D4AA5-3A57-43F1-B883-B0D5B394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2EDE1-C6C3-41DD-8656-CE2A334E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4E083-A2A7-4574-83A9-F6D7182C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B08DC-1E05-4846-8346-B2176EE4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7E1-864A-4D01-B2AF-D7ABA14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6A11F-77AB-4448-A109-CCFB0D7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8B245-C62E-48D2-867C-1DA6F006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0C841-3F61-4C03-9821-905E5640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74754-232E-4BE5-962D-47327B65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BE53A-691F-406C-BF10-C52781E6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46B7C-1413-45D0-9786-68304D0A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CB1EF-46C0-4D4A-9712-8091AC01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41A7B-2005-409B-85B3-F82E20B7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FA608-A9DB-40E7-BE14-18139FD0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CD5C3-15AF-4866-B48D-E7711DB4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D9B-A4F8-43E5-B9C5-75279CEC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148C1-5D67-4BB1-8976-D2EDE34A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241FF-BB9B-4E9F-AEEF-9D5B83F9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D1ED4-0275-4398-B1FF-BA7B7563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FA85-BF97-4C12-B732-D051E64F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BAF81-4474-4334-947A-2511873B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07E2B-BCA6-4BCB-A19D-791F9651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786C2-EE01-4D75-B1C7-2EA8AF02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19003-6340-4F42-8862-ECF55527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16BA7-B625-40F6-8DFE-601C9559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10FD8-6C5F-4F88-9545-B4D97FD5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BB68-5512-4009-8265-014E4AEEA57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E44D-5F39-4BC5-AA28-26AC537833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1E7E-FA67-4B45-8E0F-5E1DE4F966C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B8BB-EF45-40F7-A080-D0B462FCC3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5F8F-1F2E-4B87-98C2-3BD9D2A4D2B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70AA-85A8-4CBD-878C-1E9A262184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0B95-1F86-42EE-ADD6-7D9C57ACA0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F29C-E592-4909-8AA4-DEA85F38DE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0CA7-80B4-4BE6-B0F8-58E76FBEFE2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0281-5678-41CC-9C0A-F64E3608BD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D3B2-58FB-4381-B83D-8224913FA7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4164-EC1E-4742-80DB-83984E6FF3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8EE4-F72B-47C2-A30D-5926170361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5474-318C-465E-BE5F-2FFD7AD45F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2782-26DB-4D5D-866E-61D15BD8FE1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CE86-79BA-44F6-8C4C-A8284CDA56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C1E4-C4B3-437F-A41B-5ED4BA6EE6D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58CB-2EB1-48AF-8488-13A593EB14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4E94-1CE4-487E-8DC4-D1C4A0D5592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2724-C9E9-4C3B-AFD4-A4387540D4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A8CC-DB33-462B-A62C-C12EFA87723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D67D-FE4B-4C3F-A5DD-16716AAA35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6FC6-47C5-46B6-8798-6C2B406F076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F563-9B59-4F8C-AC1B-91C937B404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1C07-0969-4303-937D-DA225664A38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BD8C-BB80-467C-92E8-E1FD2E3070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造字工房悦黑体验版纤细体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造字工房悦黑体验版纤细体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3997080"/>
                <a:gd name="textAreaBottom" fmla="*/ 3997440 h 3997080"/>
              </a:gdLst>
              <a:ahLst/>
              <a:rect l="textAreaLeft" t="textAreaTop" r="textAreaRight" b="textAreaBottom"/>
              <a:pathLst>
                <a:path w="936104" h="3996384">
                  <a:moveTo>
                    <a:pt x="468052" y="0"/>
                  </a:moveTo>
                  <a:cubicBezTo>
                    <a:pt x="617451" y="0"/>
                    <a:pt x="738562" y="120883"/>
                    <a:pt x="738562" y="270000"/>
                  </a:cubicBezTo>
                  <a:lnTo>
                    <a:pt x="733111" y="323976"/>
                  </a:lnTo>
                  <a:lnTo>
                    <a:pt x="738562" y="323976"/>
                  </a:lnTo>
                  <a:lnTo>
                    <a:pt x="738562" y="3114787"/>
                  </a:lnTo>
                  <a:lnTo>
                    <a:pt x="799015" y="3166587"/>
                  </a:lnTo>
                  <a:cubicBezTo>
                    <a:pt x="883716" y="3254551"/>
                    <a:pt x="936104" y="3376072"/>
                    <a:pt x="936104" y="3510300"/>
                  </a:cubicBezTo>
                  <a:cubicBezTo>
                    <a:pt x="936104" y="3778757"/>
                    <a:pt x="726550" y="3996384"/>
                    <a:pt x="468052" y="3996384"/>
                  </a:cubicBezTo>
                  <a:cubicBezTo>
                    <a:pt x="209554" y="3996384"/>
                    <a:pt x="0" y="3778757"/>
                    <a:pt x="0" y="3510300"/>
                  </a:cubicBezTo>
                  <a:cubicBezTo>
                    <a:pt x="0" y="3376072"/>
                    <a:pt x="52388" y="3254551"/>
                    <a:pt x="137089" y="3166587"/>
                  </a:cubicBezTo>
                  <a:lnTo>
                    <a:pt x="198562" y="3113913"/>
                  </a:lnTo>
                  <a:lnTo>
                    <a:pt x="198562" y="323976"/>
                  </a:lnTo>
                  <a:lnTo>
                    <a:pt x="202994" y="323976"/>
                  </a:lnTo>
                  <a:lnTo>
                    <a:pt x="197542" y="270000"/>
                  </a:lnTo>
                  <a:cubicBezTo>
                    <a:pt x="197542" y="120883"/>
                    <a:pt x="318653" y="0"/>
                    <a:pt x="468052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223720"/>
                <a:gd name="textAreaBottom" fmla="*/ 2224080 h 2223720"/>
              </a:gdLst>
              <a:ahLst/>
              <a:rect l="textAreaLeft" t="textAreaTop" r="textAreaRight" b="textAreaBottom"/>
              <a:pathLst>
                <a:path w="720000" h="2223180">
                  <a:moveTo>
                    <a:pt x="360000" y="0"/>
                  </a:moveTo>
                  <a:cubicBezTo>
                    <a:pt x="449470" y="0"/>
                    <a:pt x="522000" y="72530"/>
                    <a:pt x="522000" y="162000"/>
                  </a:cubicBezTo>
                  <a:lnTo>
                    <a:pt x="522000" y="1543342"/>
                  </a:lnTo>
                  <a:lnTo>
                    <a:pt x="561280" y="1564662"/>
                  </a:lnTo>
                  <a:cubicBezTo>
                    <a:pt x="657040" y="1629357"/>
                    <a:pt x="720000" y="1738916"/>
                    <a:pt x="720000" y="1863180"/>
                  </a:cubicBezTo>
                  <a:cubicBezTo>
                    <a:pt x="720000" y="2062003"/>
                    <a:pt x="558823" y="2223180"/>
                    <a:pt x="360000" y="2223180"/>
                  </a:cubicBezTo>
                  <a:cubicBezTo>
                    <a:pt x="161177" y="2223180"/>
                    <a:pt x="0" y="2062003"/>
                    <a:pt x="0" y="1863180"/>
                  </a:cubicBezTo>
                  <a:cubicBezTo>
                    <a:pt x="0" y="1738916"/>
                    <a:pt x="62960" y="1629357"/>
                    <a:pt x="158720" y="1564662"/>
                  </a:cubicBezTo>
                  <a:lnTo>
                    <a:pt x="198000" y="1543342"/>
                  </a:lnTo>
                  <a:lnTo>
                    <a:pt x="198000" y="162000"/>
                  </a:lnTo>
                  <a:cubicBezTo>
                    <a:pt x="198000" y="72530"/>
                    <a:pt x="270530" y="0"/>
                    <a:pt x="36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custGeom>
            <a:avLst/>
            <a:gdLst>
              <a:gd name="textAreaLeft" fmla="*/ 0 w 936360"/>
              <a:gd name="textAreaRight" fmla="*/ 936720 w 93636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936104" h="3996384">
                <a:moveTo>
                  <a:pt x="468052" y="0"/>
                </a:moveTo>
                <a:cubicBezTo>
                  <a:pt x="617451" y="0"/>
                  <a:pt x="738562" y="120883"/>
                  <a:pt x="738562" y="270000"/>
                </a:cubicBezTo>
                <a:lnTo>
                  <a:pt x="733111" y="323976"/>
                </a:lnTo>
                <a:lnTo>
                  <a:pt x="738562" y="323976"/>
                </a:lnTo>
                <a:lnTo>
                  <a:pt x="738562" y="3114787"/>
                </a:lnTo>
                <a:lnTo>
                  <a:pt x="799015" y="3166587"/>
                </a:lnTo>
                <a:cubicBezTo>
                  <a:pt x="883716" y="3254551"/>
                  <a:pt x="936104" y="3376072"/>
                  <a:pt x="936104" y="3510300"/>
                </a:cubicBezTo>
                <a:cubicBezTo>
                  <a:pt x="936104" y="3778757"/>
                  <a:pt x="726550" y="3996384"/>
                  <a:pt x="468052" y="3996384"/>
                </a:cubicBezTo>
                <a:cubicBezTo>
                  <a:pt x="209554" y="3996384"/>
                  <a:pt x="0" y="3778757"/>
                  <a:pt x="0" y="3510300"/>
                </a:cubicBezTo>
                <a:cubicBezTo>
                  <a:pt x="0" y="3376072"/>
                  <a:pt x="52388" y="3254551"/>
                  <a:pt x="137089" y="3166587"/>
                </a:cubicBezTo>
                <a:lnTo>
                  <a:pt x="198562" y="3113913"/>
                </a:lnTo>
                <a:lnTo>
                  <a:pt x="198562" y="323976"/>
                </a:lnTo>
                <a:lnTo>
                  <a:pt x="202994" y="323976"/>
                </a:lnTo>
                <a:lnTo>
                  <a:pt x="197542" y="270000"/>
                </a:lnTo>
                <a:cubicBezTo>
                  <a:pt x="197542" y="120883"/>
                  <a:pt x="318653" y="0"/>
                  <a:pt x="468052" y="0"/>
                </a:cubicBezTo>
                <a:close/>
              </a:path>
            </a:pathLst>
          </a:cu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custGeom>
            <a:avLst/>
            <a:gdLst>
              <a:gd name="textAreaLeft" fmla="*/ 0 w 720720"/>
              <a:gd name="textAreaRight" fmla="*/ 721080 w 720720"/>
              <a:gd name="textAreaTop" fmla="*/ 0 h 2955600"/>
              <a:gd name="textAreaBottom" fmla="*/ 2955960 h 2955600"/>
            </a:gdLst>
            <a:ahLst/>
            <a:rect l="textAreaLeft" t="textAreaTop" r="textAreaRight" b="textAreaBottom"/>
            <a:pathLst>
              <a:path w="720000" h="2955756">
                <a:moveTo>
                  <a:pt x="360000" y="0"/>
                </a:moveTo>
                <a:cubicBezTo>
                  <a:pt x="427110" y="0"/>
                  <a:pt x="484690" y="42329"/>
                  <a:pt x="509286" y="102654"/>
                </a:cubicBezTo>
                <a:lnTo>
                  <a:pt x="517336" y="144016"/>
                </a:lnTo>
                <a:lnTo>
                  <a:pt x="522018" y="144016"/>
                </a:lnTo>
                <a:lnTo>
                  <a:pt x="522018" y="168078"/>
                </a:lnTo>
                <a:lnTo>
                  <a:pt x="522018" y="2272616"/>
                </a:lnTo>
                <a:lnTo>
                  <a:pt x="561280" y="2294030"/>
                </a:lnTo>
                <a:cubicBezTo>
                  <a:pt x="657040" y="2359040"/>
                  <a:pt x="720000" y="2469133"/>
                  <a:pt x="720000" y="2594002"/>
                </a:cubicBezTo>
                <a:cubicBezTo>
                  <a:pt x="720000" y="2793793"/>
                  <a:pt x="558823" y="2955756"/>
                  <a:pt x="360000" y="2955756"/>
                </a:cubicBezTo>
                <a:cubicBezTo>
                  <a:pt x="161177" y="2955756"/>
                  <a:pt x="0" y="2793793"/>
                  <a:pt x="0" y="2594002"/>
                </a:cubicBezTo>
                <a:cubicBezTo>
                  <a:pt x="0" y="2469133"/>
                  <a:pt x="62960" y="2359040"/>
                  <a:pt x="158720" y="2294030"/>
                </a:cubicBezTo>
                <a:lnTo>
                  <a:pt x="198018" y="2272596"/>
                </a:lnTo>
                <a:lnTo>
                  <a:pt x="198018" y="168263"/>
                </a:lnTo>
                <a:lnTo>
                  <a:pt x="197982" y="168078"/>
                </a:lnTo>
                <a:lnTo>
                  <a:pt x="198018" y="167893"/>
                </a:lnTo>
                <a:lnTo>
                  <a:pt x="198018" y="144016"/>
                </a:lnTo>
                <a:lnTo>
                  <a:pt x="202665" y="144016"/>
                </a:lnTo>
                <a:lnTo>
                  <a:pt x="210714" y="102654"/>
                </a:lnTo>
                <a:cubicBezTo>
                  <a:pt x="235310" y="42329"/>
                  <a:pt x="292890" y="0"/>
                  <a:pt x="3600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custGeom>
            <a:avLst/>
            <a:gdLst>
              <a:gd name="textAreaLeft" fmla="*/ 0 w 9245520"/>
              <a:gd name="textAreaRight" fmla="*/ 9245880 w 924552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9245080" h="4397330">
                <a:moveTo>
                  <a:pt x="4536504" y="0"/>
                </a:moveTo>
                <a:cubicBezTo>
                  <a:pt x="5113089" y="0"/>
                  <a:pt x="5580504" y="467415"/>
                  <a:pt x="5580504" y="1044000"/>
                </a:cubicBezTo>
                <a:lnTo>
                  <a:pt x="5579928" y="1050102"/>
                </a:lnTo>
                <a:lnTo>
                  <a:pt x="5597171" y="1021918"/>
                </a:lnTo>
                <a:cubicBezTo>
                  <a:pt x="5955551" y="495176"/>
                  <a:pt x="6562462" y="148858"/>
                  <a:pt x="7250832" y="148858"/>
                </a:cubicBezTo>
                <a:cubicBezTo>
                  <a:pt x="8352225" y="148858"/>
                  <a:pt x="9245080" y="1035433"/>
                  <a:pt x="9245080" y="2129078"/>
                </a:cubicBezTo>
                <a:cubicBezTo>
                  <a:pt x="9245080" y="3222723"/>
                  <a:pt x="8352225" y="4109298"/>
                  <a:pt x="7250832" y="4109298"/>
                </a:cubicBezTo>
                <a:cubicBezTo>
                  <a:pt x="6149439" y="4109298"/>
                  <a:pt x="5256584" y="3222723"/>
                  <a:pt x="5256584" y="2129078"/>
                </a:cubicBezTo>
                <a:cubicBezTo>
                  <a:pt x="5256584" y="2060725"/>
                  <a:pt x="5260072" y="1993181"/>
                  <a:pt x="5266880" y="1926612"/>
                </a:cubicBezTo>
                <a:lnTo>
                  <a:pt x="5292235" y="1761650"/>
                </a:lnTo>
                <a:lnTo>
                  <a:pt x="5171148" y="1873020"/>
                </a:lnTo>
                <a:cubicBezTo>
                  <a:pt x="5021819" y="1987509"/>
                  <a:pt x="4840663" y="2062561"/>
                  <a:pt x="4643247" y="2082610"/>
                </a:cubicBezTo>
                <a:lnTo>
                  <a:pt x="4549906" y="2087323"/>
                </a:lnTo>
                <a:lnTo>
                  <a:pt x="4611207" y="2133163"/>
                </a:lnTo>
                <a:cubicBezTo>
                  <a:pt x="4895239" y="2367567"/>
                  <a:pt x="5076280" y="2722306"/>
                  <a:pt x="5076280" y="3119330"/>
                </a:cubicBezTo>
                <a:cubicBezTo>
                  <a:pt x="5076280" y="3825150"/>
                  <a:pt x="4504100" y="4397330"/>
                  <a:pt x="3798280" y="4397330"/>
                </a:cubicBezTo>
                <a:cubicBezTo>
                  <a:pt x="3092460" y="4397330"/>
                  <a:pt x="2520280" y="3825150"/>
                  <a:pt x="2520280" y="3119330"/>
                </a:cubicBezTo>
                <a:cubicBezTo>
                  <a:pt x="2520280" y="3075217"/>
                  <a:pt x="2522516" y="3031625"/>
                  <a:pt x="2526878" y="2988662"/>
                </a:cubicBezTo>
                <a:lnTo>
                  <a:pt x="2533624" y="2944463"/>
                </a:lnTo>
                <a:lnTo>
                  <a:pt x="2469630" y="2992317"/>
                </a:lnTo>
                <a:cubicBezTo>
                  <a:pt x="2216822" y="3163111"/>
                  <a:pt x="1912057" y="3262839"/>
                  <a:pt x="1584000" y="3262839"/>
                </a:cubicBezTo>
                <a:cubicBezTo>
                  <a:pt x="709181" y="3262839"/>
                  <a:pt x="0" y="2553658"/>
                  <a:pt x="0" y="1678839"/>
                </a:cubicBezTo>
                <a:cubicBezTo>
                  <a:pt x="0" y="804020"/>
                  <a:pt x="709181" y="94839"/>
                  <a:pt x="1584000" y="94839"/>
                </a:cubicBezTo>
                <a:cubicBezTo>
                  <a:pt x="2458819" y="94839"/>
                  <a:pt x="3168000" y="804020"/>
                  <a:pt x="3168000" y="1678839"/>
                </a:cubicBezTo>
                <a:cubicBezTo>
                  <a:pt x="3168000" y="1788192"/>
                  <a:pt x="3156919" y="1894956"/>
                  <a:pt x="3135819" y="1998070"/>
                </a:cubicBezTo>
                <a:lnTo>
                  <a:pt x="3126713" y="2033485"/>
                </a:lnTo>
                <a:lnTo>
                  <a:pt x="3189110" y="1995578"/>
                </a:lnTo>
                <a:cubicBezTo>
                  <a:pt x="3370194" y="1897207"/>
                  <a:pt x="3577712" y="1841330"/>
                  <a:pt x="3798280" y="1841330"/>
                </a:cubicBezTo>
                <a:lnTo>
                  <a:pt x="3867149" y="1844808"/>
                </a:lnTo>
                <a:lnTo>
                  <a:pt x="3798285" y="1782220"/>
                </a:lnTo>
                <a:cubicBezTo>
                  <a:pt x="3609358" y="1593293"/>
                  <a:pt x="3492504" y="1332293"/>
                  <a:pt x="3492504" y="1044000"/>
                </a:cubicBezTo>
                <a:cubicBezTo>
                  <a:pt x="3492504" y="467415"/>
                  <a:pt x="3959919" y="0"/>
                  <a:pt x="4536504" y="0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custGeom>
              <a:avLst/>
              <a:gdLst>
                <a:gd name="textAreaLeft" fmla="*/ 144720 w 1662120"/>
                <a:gd name="textAreaRight" fmla="*/ 1517400 w 1662120"/>
                <a:gd name="textAreaTop" fmla="*/ 4320 h 50040"/>
                <a:gd name="textAreaBottom" fmla="*/ 45720 h 5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custGeom>
              <a:avLst/>
              <a:gdLst>
                <a:gd name="textAreaLeft" fmla="*/ 18720 w 186840"/>
                <a:gd name="textAreaRight" fmla="*/ 168120 w 186840"/>
                <a:gd name="textAreaTop" fmla="*/ 2520 h 24840"/>
                <a:gd name="textAreaBottom" fmla="*/ 22320 h 2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27" y="21600"/>
                  </a:lnTo>
                  <a:lnTo>
                    <a:pt x="2087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5-03-02T03:16:05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