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5E2-280A-40F1-BBBD-FC0313FA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83B-40F2-4CC1-BAE6-EE77DFC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D6C-8B90-49C7-A56F-DD50F70B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E99-7CA6-405B-AF8B-A1ADEEF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C31-51F8-45EA-A392-5F524D2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7CD-DFED-4946-823B-DDECAB13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40D-9851-4C63-B684-8D6737ED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D4D-22B9-464A-87B6-782E4AF3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728-B671-49CF-9434-0296B3D1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A45-23A8-4740-885A-57EB8C4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07A-6FFC-47C3-AC5C-5A78CAF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437-98A3-4667-A6D9-6B964A5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99BF-BE97-41E9-BBF1-CA87AEE66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4582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课堂提问系统软件简介</a:t>
            </a:r>
            <a:br>
              <a:rPr sz="4400"/>
            </a:br>
            <a:br>
              <a:rPr sz="44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者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QQ:  869321632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微信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udianxiaoshuo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官网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未旷课，则点击未旷课按钮，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1908000" y="2357280"/>
            <a:ext cx="48103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428920"/>
            <a:ext cx="8540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其他操作类似，每次操作完成后，都会有魔法表情跳出，以吸引学生关注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1680" y="1500120"/>
            <a:ext cx="85406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课后，按保存成绩并退出软件按钮，以保存学生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名册保存路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未注册版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支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班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册保存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名称为：课堂成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在安装目录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成绩”文件夹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名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792972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85880" y="3357720"/>
            <a:ext cx="1947960" cy="3214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571920" y="3714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71920" y="42861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初始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务必要设置，表示记录几次课堂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571920" y="4857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面的依次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学生名单，一个学生一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格式：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丹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表本班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同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记录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课堂成绩，路丹丹等为学生名字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每人一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此处，一定要注意 将班级人数写正确，否则可能会出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记录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571760" y="1557360"/>
            <a:ext cx="5219640" cy="422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设置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840" y="1213920"/>
            <a:ext cx="854064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设置后，会跳出如下对话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30056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1420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071720"/>
            <a:ext cx="8540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注册版本只能使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改背景图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册版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设置多门课程，可设置合堂班级（最多可设置六个班合堂），可设置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盘下新建一个文件夹“语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“语文”文件夹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课堂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注册功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课程存放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载后就可以使用此文件夹下的学生名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14240" y="2643120"/>
            <a:ext cx="728676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1989000"/>
            <a:ext cx="8715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软件旨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过在课堂上随机提问学生，并记录课堂成绩，跳出拟人化魔法表情，从而提高学生积极回答问题的兴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此成绩 可以作为平时成绩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14240" y="6429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:  8693216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欢迎大家使用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有两款不同的课堂软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界面的快乐课堂、教案问题学生信息集合的课堂助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软件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udianxiaoshu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快乐课堂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内容占位符 3" descr=""/>
          <p:cNvPicPr/>
          <p:nvPr/>
        </p:nvPicPr>
        <p:blipFill>
          <a:blip r:embed="rId1"/>
          <a:stretch/>
        </p:blipFill>
        <p:spPr>
          <a:xfrm>
            <a:off x="1104840" y="1600200"/>
            <a:ext cx="693432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内容占位符 3" descr=""/>
          <p:cNvPicPr/>
          <p:nvPr/>
        </p:nvPicPr>
        <p:blipFill>
          <a:blip r:embed="rId1"/>
          <a:stretch/>
        </p:blipFill>
        <p:spPr>
          <a:xfrm>
            <a:off x="345960" y="1600200"/>
            <a:ext cx="845208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725400" y="1600200"/>
            <a:ext cx="76932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内容占位符 3" descr=""/>
          <p:cNvPicPr/>
          <p:nvPr/>
        </p:nvPicPr>
        <p:blipFill>
          <a:blip r:embed="rId1"/>
          <a:stretch/>
        </p:blipFill>
        <p:spPr>
          <a:xfrm>
            <a:off x="3360600" y="1600200"/>
            <a:ext cx="242280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带数据库的课堂助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2"/>
          <a:stretch/>
        </p:blipFill>
        <p:spPr>
          <a:xfrm>
            <a:off x="1935000" y="3252960"/>
            <a:ext cx="5274000" cy="35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2"/>
          <a:stretch/>
        </p:blipFill>
        <p:spPr>
          <a:xfrm>
            <a:off x="611280" y="1362240"/>
            <a:ext cx="7532640" cy="470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301680" y="404640"/>
            <a:ext cx="8540640" cy="5694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1680" y="1599840"/>
            <a:ext cx="8540640" cy="449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tretch/>
        </p:blipFill>
        <p:spPr>
          <a:xfrm>
            <a:off x="0" y="228600"/>
            <a:ext cx="8842320" cy="5870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1680" y="1214280"/>
            <a:ext cx="854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软件功能介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 随机挑选一位同学回答问题，使每位同学都有可能被提问到，减少了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对指定的某位同学进行抽查   以便实现根据具体情况  有所重点检查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数设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旷课，则将此节课的成绩置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未旷课，则根据三种回答情况（回答错误、基本正确、完全正确）分别给予不同的分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1680" y="1785600"/>
            <a:ext cx="85406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绩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成绩记录保存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文件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界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6760" y="1714680"/>
            <a:ext cx="861048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介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机挑选同学回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此按钮后，系统生成一个随机数，此数范围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人数），并显示其姓名及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绩分为两项：一是这节课的成绩，一是所有次课的总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285920" y="4500720"/>
            <a:ext cx="6296040" cy="1409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1680" y="1071360"/>
            <a:ext cx="8540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该学生旷课了，则点击旷课按钮，跳出如下对话框，选择确定，则确认其旷课，本节课成绩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"/>
          <p:cNvPicPr/>
          <p:nvPr/>
        </p:nvPicPr>
        <p:blipFill>
          <a:blip r:embed="rId1"/>
          <a:stretch/>
        </p:blipFill>
        <p:spPr>
          <a:xfrm>
            <a:off x="755640" y="2637000"/>
            <a:ext cx="7448400" cy="341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跳出魔法表情，以提高学生关注的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"/>
          <p:cNvPicPr/>
          <p:nvPr/>
        </p:nvPicPr>
        <p:blipFill>
          <a:blip r:embed="rId1"/>
          <a:stretch/>
        </p:blipFill>
        <p:spPr>
          <a:xfrm>
            <a:off x="971640" y="2205000"/>
            <a:ext cx="6696000" cy="4340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42960" y="2142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界面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1:08:14Z</dcterms:created>
  <dc:creator>in9</dc:creator>
  <dc:description/>
  <dc:language>en-US</dc:language>
  <cp:lastModifiedBy>shuilan shuilan</cp:lastModifiedBy>
  <dcterms:modified xsi:type="dcterms:W3CDTF">2016-09-13T04:25:22Z</dcterms:modified>
  <cp:revision>42</cp:revision>
  <dc:subject/>
  <dc:title>课堂提问系统软件简介  作者QQ:  8693216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