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6%B2%B3%E6%B0%B4%E5%A3%B02.wav" ContentType="audio/x-wav"/>
  <Override PartName="/ppt/media/image12.jpeg" ContentType="image/jpeg"/>
  <Override PartName="/ppt/media/image10.png" ContentType="image/png"/>
  <Override PartName="/ppt/media/image27.jpeg" ContentType="image/jpeg"/>
  <Override PartName="/ppt/media/image2.gif" ContentType="image/gif"/>
  <Override PartName="/ppt/media/image11.png" ContentType="image/png"/>
  <Override PartName="/ppt/media/image6.png" ContentType="image/png"/>
  <Override PartName="/ppt/media/image7.png" ContentType="image/png"/>
  <Override PartName="/ppt/media/image4.gif" ContentType="image/gif"/>
  <Override PartName="/ppt/media/image14.jpeg" ContentType="image/jpeg"/>
  <Override PartName="/ppt/media/image5.gif" ContentType="image/gif"/>
  <Override PartName="/ppt/media/image8.png" ContentType="image/png"/>
  <Override PartName="/ppt/media/image9.png" ContentType="image/png"/>
  <Override PartName="/ppt/media/image16.png" ContentType="image/png"/>
  <Override PartName="/ppt/media/image13.gif" ContentType="image/gif"/>
  <Override PartName="/ppt/media/chimes.wav" ContentType="audio/x-wav"/>
  <Override PartName="/ppt/media/image15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.gif" ContentType="image/gif"/>
  <Override PartName="/ppt/media/image24.png" ContentType="image/png"/>
  <Override PartName="/ppt/media/image25.jpeg" ContentType="image/jpeg"/>
  <Override PartName="/ppt/media/image3.gif" ContentType="image/gif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875-9707-4232-916F-3E9E7378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08D-9DB3-492C-BC22-21DE895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F85-577E-48E2-AF7B-06C817B4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CEA-67A7-48CD-B2F7-A00C57F2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0A7-0746-42E9-9CAF-4775D56A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9C9-2362-4B31-A50F-2E904C8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6F2-F8C8-4367-A0E6-733E9858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5B9-4F78-4950-A0CA-ECCEBF96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FD2-38B7-4874-9135-09D61B8E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24-22F4-4794-AB90-6B109FA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FC1-6E53-4DA6-B618-F1136D7B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2E9-DE53-47AC-A679-EF66C4A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9657-0849-48AD-B84A-516BC629D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11.xml"/><Relationship Id="rId4" Type="http://schemas.openxmlformats.org/officeDocument/2006/relationships/image" Target="../media/image9.png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&#27827;&#27700;&#22768;2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image" Target="../media/image9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735200" cy="173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202716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79640" y="5805360"/>
            <a:ext cx="17733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37480" y="6191280"/>
            <a:ext cx="14065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08720" y="1197000"/>
            <a:ext cx="1150920" cy="71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03280" y="2276640"/>
            <a:ext cx="604836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求平均数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7640" y="430200"/>
            <a:ext cx="8496360" cy="64278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851280" y="5516640"/>
            <a:ext cx="3529080" cy="1010520"/>
            <a:chOff x="3851280" y="5516640"/>
            <a:chExt cx="3529080" cy="1010520"/>
          </a:xfrm>
        </p:grpSpPr>
        <p:sp>
          <p:nvSpPr>
            <p:cNvPr id="205" name="未知"/>
            <p:cNvSpPr/>
            <p:nvPr/>
          </p:nvSpPr>
          <p:spPr>
            <a:xfrm>
              <a:off x="3851280" y="551664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1640" y="576288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ff00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164360" y="501336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47640" y="1052640"/>
            <a:ext cx="54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平均数和原来那些数相比，处在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位置，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比最大的数要小，比最小的数要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14480" y="2887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）先求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748040" y="3116160"/>
            <a:ext cx="3352680" cy="459720"/>
            <a:chOff x="4748040" y="3116160"/>
            <a:chExt cx="3352680" cy="459720"/>
          </a:xfrm>
        </p:grpSpPr>
        <p:sp>
          <p:nvSpPr>
            <p:cNvPr id="211" name=""/>
            <p:cNvSpPr/>
            <p:nvPr/>
          </p:nvSpPr>
          <p:spPr>
            <a:xfrm>
              <a:off x="4748040" y="33447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00320" y="31161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把各个部分数加起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00000" y="38559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）再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平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21040" y="4821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总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÷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份数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平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44784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125360"/>
            <a:ext cx="5543640" cy="151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000" y="6165720"/>
            <a:ext cx="1403280" cy="647640"/>
            <a:chOff x="108000" y="6165720"/>
            <a:chExt cx="1403280" cy="647640"/>
          </a:xfrm>
        </p:grpSpPr>
        <p:grpSp>
          <p:nvGrpSpPr>
            <p:cNvPr id="218" name=""/>
            <p:cNvGrpSpPr/>
            <p:nvPr/>
          </p:nvGrpSpPr>
          <p:grpSpPr>
            <a:xfrm>
              <a:off x="142920" y="6165720"/>
              <a:ext cx="1368360" cy="647640"/>
              <a:chOff x="142920" y="6165720"/>
              <a:chExt cx="1368360" cy="647640"/>
            </a:xfrm>
          </p:grpSpPr>
          <p:sp>
            <p:nvSpPr>
              <p:cNvPr id="219" name="">
                <a:hlinkClick r:id="rId3" action="ppaction://hlinksldjump"/>
              </p:cNvPr>
              <p:cNvSpPr/>
              <p:nvPr/>
            </p:nvSpPr>
            <p:spPr>
              <a:xfrm>
                <a:off x="142920" y="616572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640" y="623880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>
              <a:hlinkClick r:id="rId5" action="ppaction://hlinksldjump"/>
            </p:cNvPr>
            <p:cNvSpPr/>
            <p:nvPr/>
          </p:nvSpPr>
          <p:spPr>
            <a:xfrm>
              <a:off x="108000" y="616572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80"/>
                            </p:stCondLst>
                            <p:childTnLst>
                              <p:par>
                                <p:cTn id="7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2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5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6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3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4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6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7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8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5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6" dur="250" autoRev="1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8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9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25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900000" y="3268800"/>
            <a:ext cx="1452600" cy="2752560"/>
            <a:chOff x="900000" y="3268800"/>
            <a:chExt cx="1452600" cy="27525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971280" y="3645000"/>
              <a:ext cx="1381320" cy="23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900000" y="3268800"/>
              <a:ext cx="1438200" cy="27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804000" y="3355920"/>
            <a:ext cx="1619280" cy="2800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771640" y="3139920"/>
            <a:ext cx="1714680" cy="3019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491000" y="3146400"/>
            <a:ext cx="2457360" cy="3162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68360" y="10112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四个同样的杯子装水，每个杯子分别标有水面的高度，这四个杯子水面的平均高度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5640" y="2852640"/>
            <a:ext cx="13683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200" y="141300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面是一只母鸡六个月产蛋的统计表。根据题目中给的数据，算出这只母鸡平均每月产多少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5640" y="2708280"/>
          <a:ext cx="7620120" cy="12193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066680"/>
                <a:gridCol w="1066680"/>
                <a:gridCol w="1143000"/>
                <a:gridCol w="1143000"/>
                <a:gridCol w="1067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月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二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三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五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六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0" y="54936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想一想：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下面哪个列式才对</a:t>
            </a:r>
            <a:r>
              <a:rPr b="1" i="1" lang="zh-CN" sz="48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6880" y="4365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6880" y="5737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50925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560" y="4941720"/>
            <a:ext cx="5375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00720" y="435456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6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765000"/>
            <a:ext cx="882000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707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32000" y="4508640"/>
            <a:ext cx="73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游泳池的平均水深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2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厘米，小明身高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4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厘米，他在游泳池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游泳，会不会有危险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969080" cy="3338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 rot="5400000">
            <a:off x="281520" y="1813680"/>
            <a:ext cx="2232000" cy="8524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想一想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59" name=""/>
          <p:cNvSpPr/>
          <p:nvPr/>
        </p:nvSpPr>
        <p:spPr>
          <a:xfrm>
            <a:off x="3565440" y="4508640"/>
            <a:ext cx="2014560" cy="64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B2%B3%E6%B0%B4%E5%A3%B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8360" y="2349360"/>
            <a:ext cx="813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春节期间丽江旅游人数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旅游收入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今年三月份平均每天气温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年级学生平均年龄是９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班平均身高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老师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年平均每月用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瓦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西部最缺水的地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均每人每天用水只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76360" y="692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我们生活中，平均数无处不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请你读一读下面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你找一找在我们生活中还有哪些平均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33360"/>
            <a:ext cx="8424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求平均数的计算方法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量较小时使用比较方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总数量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总份数 ＝平均数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平均数的一般方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19700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移多补少法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13372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040" y="3646440"/>
            <a:ext cx="841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数的特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数和原来那些数相比，处在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置，比最大的数要小，比最小的数要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0540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00"/>
                </a:solidFill>
                <a:latin typeface="Arial"/>
              </a:rPr>
              <a:t>看谁算的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7440" y="2278080"/>
            <a:ext cx="63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一个西瓜平均分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份，每人一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分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小朋友吃，平均每位小朋友有几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5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均分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份，每份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341520"/>
            <a:ext cx="1577880" cy="20764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2240" y="3840120"/>
            <a:ext cx="1492200" cy="15778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5240" y="4255920"/>
            <a:ext cx="1492200" cy="1162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67440" y="4089240"/>
            <a:ext cx="1493640" cy="132876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6200000">
            <a:off x="3810240" y="4033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6200000">
            <a:off x="851040" y="4006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6200000">
            <a:off x="2346480" y="4006800"/>
            <a:ext cx="2738160" cy="842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80" y="987480"/>
            <a:ext cx="78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把挡板拿开，里面的水会怎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800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7344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67440" y="3933720"/>
            <a:ext cx="1530360" cy="1486080"/>
          </a:xfrm>
          <a:prstGeom prst="rect">
            <a:avLst/>
          </a:prstGeom>
          <a:solidFill>
            <a:srgbClr val="5e8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684360" y="2852640"/>
            <a:ext cx="5976720" cy="2571840"/>
          </a:xfrm>
          <a:custGeom>
            <a:avLst/>
            <a:gdLst/>
            <a:ahLst/>
            <a:rect l="l" t="t" r="r" b="b"/>
            <a:pathLst>
              <a:path w="3266" h="1724">
                <a:moveTo>
                  <a:pt x="0" y="0"/>
                </a:moveTo>
                <a:lnTo>
                  <a:pt x="0" y="1724"/>
                </a:lnTo>
                <a:lnTo>
                  <a:pt x="3266" y="1724"/>
                </a:lnTo>
                <a:lnTo>
                  <a:pt x="3266" y="0"/>
                </a:lnTo>
              </a:path>
            </a:pathLst>
          </a:custGeom>
          <a:solidFill>
            <a:srgbClr val="ffffff">
              <a:alpha val="24000"/>
            </a:srgbClr>
          </a:solidFill>
          <a:ln w="63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3976560"/>
            <a:ext cx="73080" cy="1368720"/>
          </a:xfrm>
          <a:custGeom>
            <a:avLst/>
            <a:gdLst>
              <a:gd name="textAreaLeft" fmla="*/ 0 w 73080"/>
              <a:gd name="textAreaRight" fmla="*/ 2628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42840" y="426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平均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40720" y="15573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222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怎样移动才能使每排小球个数同样多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22040" y="5329080"/>
            <a:ext cx="4578840" cy="703440"/>
          </a:xfrm>
          <a:prstGeom prst="rect">
            <a:avLst/>
          </a:prstGeom>
          <a:solidFill>
            <a:srgbClr val="a1d7b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5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 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020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692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184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84464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184464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056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3856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997360"/>
            <a:ext cx="79200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0200" y="4149720"/>
            <a:ext cx="792360" cy="7920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6920" y="4149720"/>
            <a:ext cx="792360" cy="7920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1120" y="19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1120" y="307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920" y="4227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4560" y="1844640"/>
            <a:ext cx="792360" cy="7923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328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1280" y="299736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32194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每排都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276640"/>
            <a:ext cx="287280" cy="2447640"/>
          </a:xfrm>
          <a:custGeom>
            <a:avLst/>
            <a:gdLst>
              <a:gd name="textAreaLeft" fmla="*/ 0 w 287280"/>
              <a:gd name="textAreaRight" fmla="*/ 103680 w 28728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2680" y="19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2680" y="307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1120" y="4227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31875 0.33079 E">
                                      <p:cBhvr>
                                        <p:cTn id="20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16783 E">
                                      <p:cBhvr>
                                        <p:cTn id="21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16783 E">
                                      <p:cBhvr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43394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像这样，几个不相等的量，在总数不变的前提下，通过移多补少，会得到一个相等的数，我们把这个相等的数叫做这几个数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平均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8000" y="6165720"/>
            <a:ext cx="1403280" cy="647640"/>
            <a:chOff x="108000" y="6165720"/>
            <a:chExt cx="1403280" cy="647640"/>
          </a:xfrm>
        </p:grpSpPr>
        <p:grpSp>
          <p:nvGrpSpPr>
            <p:cNvPr id="96" name=""/>
            <p:cNvGrpSpPr/>
            <p:nvPr/>
          </p:nvGrpSpPr>
          <p:grpSpPr>
            <a:xfrm>
              <a:off x="142920" y="6165720"/>
              <a:ext cx="1368360" cy="647640"/>
              <a:chOff x="142920" y="6165720"/>
              <a:chExt cx="1368360" cy="647640"/>
            </a:xfrm>
          </p:grpSpPr>
          <p:sp>
            <p:nvSpPr>
              <p:cNvPr id="97" name="">
                <a:hlinkClick r:id="rId2" action="ppaction://hlinksldjump"/>
              </p:cNvPr>
              <p:cNvSpPr/>
              <p:nvPr/>
            </p:nvSpPr>
            <p:spPr>
              <a:xfrm>
                <a:off x="142920" y="616572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2640" y="623880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>
              <a:off x="108000" y="616572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2708280"/>
            <a:ext cx="3671640" cy="1871640"/>
          </a:xfrm>
          <a:prstGeom prst="cloudCallout">
            <a:avLst>
              <a:gd name="adj1" fmla="val 95393"/>
              <a:gd name="adj2" fmla="val 44064"/>
            </a:avLst>
          </a:prstGeom>
          <a:solidFill>
            <a:srgbClr val="ffff99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组平均每个人收集了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83664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红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242100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兰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941720"/>
            <a:ext cx="2160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丽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5445000"/>
            <a:ext cx="19432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明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35892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35892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06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38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7024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70368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1403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5720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49989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543096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862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62946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679932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1116000" y="836640"/>
            <a:ext cx="3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1547640" y="220500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979640" y="220500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2406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2838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327024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>
            <a:off x="370368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1"/>
          <a:stretch/>
        </p:blipFill>
        <p:spPr>
          <a:xfrm>
            <a:off x="41403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2"/>
          <a:stretch/>
        </p:blipFill>
        <p:spPr>
          <a:xfrm>
            <a:off x="45720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3"/>
          <a:stretch/>
        </p:blipFill>
        <p:spPr>
          <a:xfrm>
            <a:off x="49989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4"/>
          <a:stretch/>
        </p:blipFill>
        <p:spPr>
          <a:xfrm>
            <a:off x="543096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5"/>
          <a:stretch/>
        </p:blipFill>
        <p:spPr>
          <a:xfrm>
            <a:off x="58626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6"/>
          <a:stretch/>
        </p:blipFill>
        <p:spPr>
          <a:xfrm>
            <a:off x="1116000" y="220500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7"/>
          <a:stretch/>
        </p:blipFill>
        <p:spPr>
          <a:xfrm>
            <a:off x="1547640" y="357336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>
            <a:off x="1979640" y="357336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24066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28386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327024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2"/>
          <a:stretch/>
        </p:blipFill>
        <p:spPr>
          <a:xfrm>
            <a:off x="370368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3"/>
          <a:stretch/>
        </p:blipFill>
        <p:spPr>
          <a:xfrm>
            <a:off x="41403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4"/>
          <a:stretch/>
        </p:blipFill>
        <p:spPr>
          <a:xfrm>
            <a:off x="45720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5"/>
          <a:stretch/>
        </p:blipFill>
        <p:spPr>
          <a:xfrm>
            <a:off x="49989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6"/>
          <a:stretch/>
        </p:blipFill>
        <p:spPr>
          <a:xfrm>
            <a:off x="543096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7"/>
          <a:stretch/>
        </p:blipFill>
        <p:spPr>
          <a:xfrm>
            <a:off x="1116000" y="357336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8"/>
          <a:stretch/>
        </p:blipFill>
        <p:spPr>
          <a:xfrm>
            <a:off x="1547640" y="494172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9"/>
          <a:stretch/>
        </p:blipFill>
        <p:spPr>
          <a:xfrm>
            <a:off x="1979640" y="4941720"/>
            <a:ext cx="358920" cy="11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0"/>
          <a:stretch/>
        </p:blipFill>
        <p:spPr>
          <a:xfrm>
            <a:off x="2411280" y="4941720"/>
            <a:ext cx="365400" cy="1152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1"/>
          <a:stretch/>
        </p:blipFill>
        <p:spPr>
          <a:xfrm>
            <a:off x="28386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2"/>
          <a:stretch/>
        </p:blipFill>
        <p:spPr>
          <a:xfrm>
            <a:off x="327024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3"/>
          <a:stretch/>
        </p:blipFill>
        <p:spPr>
          <a:xfrm>
            <a:off x="370368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4"/>
          <a:stretch/>
        </p:blipFill>
        <p:spPr>
          <a:xfrm>
            <a:off x="414036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5"/>
          <a:stretch/>
        </p:blipFill>
        <p:spPr>
          <a:xfrm>
            <a:off x="45720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6"/>
          <a:stretch/>
        </p:blipFill>
        <p:spPr>
          <a:xfrm>
            <a:off x="5003640" y="4941720"/>
            <a:ext cx="36540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7"/>
          <a:stretch/>
        </p:blipFill>
        <p:spPr>
          <a:xfrm>
            <a:off x="543096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8"/>
          <a:stretch/>
        </p:blipFill>
        <p:spPr>
          <a:xfrm>
            <a:off x="58626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9"/>
          <a:stretch/>
        </p:blipFill>
        <p:spPr>
          <a:xfrm>
            <a:off x="630072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0"/>
          <a:stretch/>
        </p:blipFill>
        <p:spPr>
          <a:xfrm>
            <a:off x="679932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1"/>
          <a:stretch/>
        </p:blipFill>
        <p:spPr>
          <a:xfrm>
            <a:off x="1116000" y="4941720"/>
            <a:ext cx="36504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2"/>
          <a:stretch/>
        </p:blipFill>
        <p:spPr>
          <a:xfrm>
            <a:off x="7230960" y="4941720"/>
            <a:ext cx="36540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00000" y="40428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623736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970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65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93372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229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36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630864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1    2    3   4     5    6    7    8    9   10  11   12  13  14 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754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32720" y="6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256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2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05000"/>
            <a:ext cx="23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平均每个人收集了多少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-0.05885 0.19954 E">
                                      <p:cBhvr>
                                        <p:cTn id="6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-0.10607 -0.19954 E">
                                      <p:cBhvr>
                                        <p:cTn id="64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829 L -0.10607 -0.19954 E">
                                      <p:cBhvr>
                                        <p:cTn id="64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03840" y="1425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5080" y="7650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相当于，把我们组收集的矿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瓶平均分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47000" y="28256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 + 12 + 11 + 15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5680" y="340200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52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3978360"/>
            <a:ext cx="20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6480" y="5024520"/>
            <a:ext cx="16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一组平均每人收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2624040" y="0"/>
            <a:ext cx="1171728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6560" y="704880"/>
            <a:ext cx="47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800" y="10904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3300"/>
                </a:solidFill>
                <a:latin typeface="Arial"/>
                <a:ea typeface="黑体"/>
              </a:rPr>
              <a:t>开动脑筋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560" y="2494080"/>
            <a:ext cx="64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平均数的方法是什么呢？试着谈一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要求：小组讨论，组长总结发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3-20T06:58:12Z</dcterms:modified>
  <cp:revision>3</cp:revision>
  <dc:subject/>
  <dc:title>幻灯片 1</dc:title>
</cp:coreProperties>
</file>