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687-0A82-4886-A083-BBB93C3389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课件要交流，浙教版初中科学课件交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群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724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瑞安市东山中学　杨直梭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4782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点烦之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rayzs.blog.zjol.com.c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课件要交流，浙教版初中科学课件交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群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724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瑞安市东山中学　杨直梭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4782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20A-2594-4CE4-831B-A199F18E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382572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698-9615-485E-BDD6-EBA3CBC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C7E-2FE9-4598-A543-9CC5F8F4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F1F-CB14-45A3-BDF8-891D28C8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342-148A-42AD-8BEC-4A06416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50B-BFD1-4E70-A98C-1101B7E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851-4C10-4B21-BF67-FC5F0C1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81F-65D4-4481-88AB-6CC3636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1960" y="4428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0BD-1DDF-4F2C-B4F2-92EE403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006-5A5F-4E02-B5B7-B92C953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BD1-B862-45F2-A725-4C6319C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DE4-0276-4CE5-90A1-A8541E4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920" y="112536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8900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765000"/>
            <a:ext cx="15264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444B-E359-48BA-A38F-47E9618D1BD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ShockwaveFlash1"/>
          <p:cNvGraphicFramePr/>
          <p:nvPr/>
        </p:nvGraphicFramePr>
        <p:xfrm>
          <a:off x="8172360" y="0"/>
          <a:ext cx="9716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" name="ShockwaveFlash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72360" y="0"/>
                    <a:ext cx="97164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5110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4640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9520" y="3357720"/>
            <a:ext cx="5496120" cy="389880"/>
            <a:chOff x="299520" y="3357720"/>
            <a:chExt cx="5496120" cy="389880"/>
          </a:xfrm>
        </p:grpSpPr>
        <p:sp>
          <p:nvSpPr>
            <p:cNvPr id="56" name=""/>
            <p:cNvSpPr/>
            <p:nvPr/>
          </p:nvSpPr>
          <p:spPr>
            <a:xfrm flipH="1" flipV="1" rot="16200000">
              <a:off x="2971080" y="837720"/>
              <a:ext cx="151920" cy="549612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0066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598120" y="3357720"/>
              <a:ext cx="782280" cy="389880"/>
              <a:chOff x="2598120" y="3357720"/>
              <a:chExt cx="782280" cy="3898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2598120" y="3358080"/>
                <a:ext cx="782280" cy="389520"/>
                <a:chOff x="2598120" y="3358080"/>
                <a:chExt cx="782280" cy="389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59680" y="3475440"/>
                  <a:ext cx="720720" cy="27216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598120" y="3358080"/>
                  <a:ext cx="780840" cy="34848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620080" y="3416040"/>
                <a:ext cx="29952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16520" y="3357720"/>
                <a:ext cx="5220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01400" y="3389760"/>
                <a:ext cx="269280" cy="23580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0" y="0"/>
            <a:ext cx="7885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42:36Z</dcterms:created>
  <dc:creator>微软用户</dc:creator>
  <dc:description/>
  <dc:language>en-US</dc:language>
  <cp:lastModifiedBy>微软用户</cp:lastModifiedBy>
  <dcterms:modified xsi:type="dcterms:W3CDTF">2010-09-08T13:07:50Z</dcterms:modified>
  <cp:revision>21</cp:revision>
  <dc:subject/>
  <dc:title>幻灯片 1</dc:title>
</cp:coreProperties>
</file>