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1.png" ContentType="image/png"/>
  <Override PartName="/ppt/media/image3.jpeg" ContentType="image/jpeg"/>
  <Override PartName="/ppt/media/explode.wav" ContentType="audio/x-wav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6F5E-C2F7-4173-9F2D-67F23589E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0743-756F-44D4-BD45-940BDD6C1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AC60-629A-4D8D-BA98-2485EB30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481E-E40F-4262-ABCD-7237B4D96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2930-5E9C-4881-AF41-254C5CD1A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C704-22BB-4F81-B1B8-B4352DED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DA24-BE1C-4044-A019-E36D5CAAB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649-E20D-4197-8A73-663C6005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3A9A-2B72-4EA4-8C73-72248FF2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BB6-0C49-433A-98B2-B78F94CA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5301-E4FB-4DFF-A718-EE6DA70D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6B49-C238-4881-95A3-DCA3DFCD7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8819-581F-4A74-BECE-88F880CA0B8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动画案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输入汉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增加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76360" y="2781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进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飞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激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字体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上一项之后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7500"/>
                            </p:stCondLst>
                            <p:childTnLst>
                              <p:par>
                                <p:cTn id="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25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强调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改填充颜色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00"/>
                            </p:stCondLst>
                            <p:childTnLst>
                              <p:par>
                                <p:cTn id="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步骤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幻灯片放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定义动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效果：退出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挥舞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右键效果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时间：从上一项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声音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78936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PowerPoint </a:t>
            </a:r>
            <a:r>
              <a:rPr b="0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动画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500"/>
                            </p:stCondLst>
                            <p:childTnLst>
                              <p:par>
                                <p:cTn id="55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500"/>
                            </p:stCondLst>
                            <p:childTnLst>
                              <p:par>
                                <p:cTn id="61" nodeType="afterEffect" fill="hold" presetClass="exit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4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99640" y="2276280"/>
            <a:ext cx="63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Microsoft Office XP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全新体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slide0001_image007" descr=""/>
          <p:cNvPicPr/>
          <p:nvPr/>
        </p:nvPicPr>
        <p:blipFill>
          <a:blip r:embed="rId1"/>
          <a:srcRect l="2257" t="3352" r="3098" b="2925"/>
          <a:stretch/>
        </p:blipFill>
        <p:spPr>
          <a:xfrm>
            <a:off x="5219640" y="3068640"/>
            <a:ext cx="3381480" cy="22766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476360" y="549360"/>
            <a:ext cx="6048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标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绘制自定义路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、同时小汽车从左侧进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-1.66667E-006 4.04624E-007 C 0.00434 -0.04162 0.00955 -0.08254 0.01389 -0.0837 C 0.01893 -0.08439 0.02622 -0.02012 0.0283 -0.00624 E">
                                      <p:cBhvr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dur="1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turbonium-white-top" descr=""/>
          <p:cNvPicPr/>
          <p:nvPr/>
        </p:nvPicPr>
        <p:blipFill>
          <a:blip r:embed="rId1"/>
          <a:stretch/>
        </p:blipFill>
        <p:spPr>
          <a:xfrm rot="18855600">
            <a:off x="2916000" y="2193840"/>
            <a:ext cx="2448000" cy="23878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华文彩云"/>
              </a:rPr>
              <a:t>全新体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633840" y="2349360"/>
            <a:ext cx="1368360" cy="1368720"/>
          </a:xfrm>
          <a:prstGeom prst="ellipse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067280" y="2924280"/>
            <a:ext cx="1368360" cy="1368360"/>
          </a:xfrm>
          <a:prstGeom prst="ellipse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76720" y="2997360"/>
            <a:ext cx="1368360" cy="1368360"/>
          </a:xfrm>
          <a:prstGeom prst="ellipse">
            <a:avLst/>
          </a:prstGeom>
          <a:solidFill>
            <a:srgbClr val="ff66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373720"/>
            <a:ext cx="541440" cy="541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9901080" y="2060640"/>
            <a:ext cx="2865600" cy="347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75" name=""/>
          <p:cNvSpPr/>
          <p:nvPr/>
        </p:nvSpPr>
        <p:spPr>
          <a:xfrm>
            <a:off x="1979640" y="3716280"/>
            <a:ext cx="56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0099"/>
                </a:solidFill>
                <a:latin typeface="Arial"/>
                <a:ea typeface="华文行楷"/>
              </a:rPr>
              <a:t>即将上演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autoRev="1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62 -0.00023 C 0.05365 -0.01272 0.12084 0.05827 0.12934 0.15399 C 0.13802 0.25318 0.08542 0.3415 0.01216 0.35191 C -0.06041 0.3637 -0.12708 0.29549 -0.13663 0.19792 C -0.14531 0.10197 -0.09201 0.0104 -0.01962 -0.00023 Z">
                                      <p:cBhvr>
                                        <p:cTn id="8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autoRev="1" nodeType="withEffect" fill="hold" presetClass="path" presetID="1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108 0.02358 C -0.03663 0.10405 0.05208 0.11607 0.11632 0.05202 C 0.18107 -0.01249 0.1967 -0.12832 0.15173 -0.20832 C 0.10746 -0.2874 0.01892 -0.30081 -0.04566 -0.23607 C -0.1059 -0.17619 -0.12622 -0.0548 -0.08108 0.02358 Z">
                                      <p:cBhvr>
                                        <p:cTn id="8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autoRev="1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361 -0.01017 C 0.03403 0.06914 -0.05278 0.09064 -0.11788 0.03307 C -0.18229 -0.02358 -0.20139 -0.13549 -0.16146 -0.21595 C -0.12135 -0.2978 -0.0375 -0.31722 0.02726 -0.26057 C 0.09236 -0.20346 0.11406 -0.09202 0.07361 -0.01017 Z">
                                      <p:cBhvr>
                                        <p:cTn id="84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21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4.68208E-006 C 0.02066 0.00092 0.04584 0.00763 0.06667 4.68208E-006 C 0.07483 -0.01596 0.08247 -0.03191 0.09219 -0.04648 C 0.09757 -0.05457 0.10365 -0.0585 0.10799 -0.06775 C 0.11268 -0.03631 0.09688 0.00416 0.11424 0.02751 C 0.12049 0.05271 0.13039 0.01919 0.13316 0.01271 C 0.13542 0.00832 0.13785 0.00439 0.13959 4.68208E-006 C 0.14601 -0.0155 0.14983 -0.03631 0.154 -0.05295 C 0.1573 -0.06659 0.15712 -0.06197 0.16198 -0.07607 C 0.1665 -0.08925 0.1698 -0.10313 0.17466 -0.11631 C 0.18733 -0.20278 0.15903 -0.00185 0.18421 0.04855 C 0.19688 0.04185 0.19671 0.03537 0.20157 0.01895 C 0.20504 -0.00671 0.21302 -0.02914 0.22066 -0.05295 C 0.22362 -0.06243 0.22362 -0.0733 0.22709 -0.08255 C 0.22865 -0.08671 0.23056 -0.09087 0.23177 -0.09526 C 0.23542 -0.10821 0.23629 -0.12232 0.23976 -0.13526 C 0.24323 -0.14844 0.24809 -0.16047 0.25243 -0.17342 C 0.25955 -0.19538 0.25157 -0.1785 0.25886 -0.19237 C 0.26112 -0.20417 0.26164 -0.21226 0.2665 -0.22197 C 0.26927 -0.16093 0.26771 -0.0992 0.27136 -0.03815 C 0.27275 -0.01203 0.27726 0.02797 0.29514 0.04439 C 0.30903 0.03815 0.31129 0.02057 0.31893 0.00624 C 0.32917 -0.04185 0.31285 0.0319 0.32865 -0.02752 C 0.33177 -0.03931 0.33316 -0.05203 0.33664 -0.06359 C 0.33768 -0.06706 0.33872 -0.07052 0.33976 -0.07399 C 0.34271 -0.0985 0.34879 -0.12093 0.35556 -0.14382 C 0.3573 -0.15839 0.35903 -0.15723 0.36198 -0.16925 C 0.3625 -0.17688 0.36355 -0.18474 0.36355 -0.19237 C 0.36355 -0.19469 0.36355 -0.19815 0.36198 -0.19885 C 0.36059 -0.19954 0.3599 -0.19584 0.35886 -0.19446 C 0.35521 -0.17342 0.35712 -0.18174 0.354 -0.16925 C 0.35521 -0.12648 0.34566 -0.11052 0.37153 -0.09943 C 0.3757 -0.10012 0.38004 -0.09966 0.38403 -0.10151 C 0.4007 -0.10937 0.40573 -0.13688 0.41441 -0.15446 C 0.4191 -0.1637 0.42379 -0.17295 0.42865 -0.18197 C 0.44011 -0.2037 0.45608 -0.22266 0.46997 -0.24116 C 0.48351 -0.25943 0.49427 -0.28093 0.50487 -0.30243 C 0.51198 -0.31723 0.51459 -0.33249 0.5191 -0.34891 C 0.52743 -0.38035 0.53716 -0.41226 0.54914 -0.44185 C 0.54983 -0.44532 0.57952 -0.74451 0.58004 -0.74798 C 0.58056 -0.75006 0.55226 -0.46081 0.55226 -0.45873 C 0.55226 -0.45434 0.55139 -0.45018 0.55052 -0.44602 C 0.55 -0.35862 0.5566 -0.25064 0.54289 -0.15862 C 0.54341 -0.11931 0.52257 -0.04232 0.56198 -0.0296 C 0.57066 -0.02197 0.57344 -0.02937 0.58091 -0.03607 C 0.59688 -0.06868 0.60052 -0.10382 0.61112 -0.13966 C 0.61372 -0.14891 0.61684 -0.15792 0.6191 -0.16717 C 0.62084 -0.1748 0.62153 -0.18289 0.62379 -0.19029 C 0.63282 -0.22428 0.62969 -0.20209 0.63664 -0.23052 C 0.64375 -0.26151 0.65174 -0.29226 0.65886 -0.32347 C 0.65834 -0.34313 0.65799 -0.36301 0.65695 -0.38266 C 0.65695 -0.38636 0.65539 -0.397 0.65539 -0.3933 C 0.65539 -0.29896 0.65608 -0.2044 0.65695 -0.11006 C 0.65712 -0.08024 0.66424 -0.05619 0.67309 -0.0296 C 0.67882 -0.01226 0.68039 0.01225 0.69375 0.02104 C 0.69983 0.01826 0.70504 0.00971 0.70799 0.00208 C 0.7165 -0.01943 0.72223 -0.04278 0.72865 -0.06567 C 0.73438 -0.08648 0.74202 -0.10613 0.74775 -0.12694 C 0.76077 -0.1748 0.77014 -0.22405 0.78108 -0.27284 C 0.7816 -0.30729 0.78143 -0.34197 0.78264 -0.37642 C 0.78282 -0.38081 0.78403 -0.3681 0.78421 -0.3637 C 0.78507 -0.34474 0.78455 -0.32555 0.78577 -0.30659 C 0.78681 -0.28787 0.78924 -0.29272 0.79375 -0.277 C 0.79844 -0.26105 0.8 -0.24301 0.8033 -0.22636 C 0.80434 -0.19677 0.80417 -0.16694 0.80643 -0.13758 C 0.80677 -0.13226 0.81059 -0.1281 0.81112 -0.12278 C 0.81476 -0.09018 0.81077 -0.08486 0.81424 -0.05711 C 0.8158 -0.04694 0.82379 -0.01642 0.83021 -0.01064 C 0.8408 -0.01365 0.85018 -0.01619 0.85886 -0.02544 C 0.87084 -0.03815 0.88056 -0.05943 0.88577 -0.07839 C 0.88959 -0.09226 0.89046 -0.10729 0.89532 -0.12047 C 0.89757 -0.12671 0.90313 -0.13596 0.90625 -0.14174 C 0.91059 -0.15862 0.91476 -0.17503 0.91737 -0.19237 C 0.9165 -0.22289 0.91511 -0.23561 0.9125 -0.2622 C 0.90052 -0.19561 0.91164 -0.17688 0.92379 -0.12902 C 0.9257 -0.12139 0.92605 -0.11284 0.92865 -0.10567 C 0.93316 -0.09318 0.94653 -0.09064 0.95539 -0.08671 C 0.95851 -0.08532 1.02292 -0.17526 1.02292 -0.17503 E">
                                      <p:cBhvr>
                                        <p:cTn id="123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5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003 -0.02613 L -0.73299 -0.02728 E">
                                      <p:cBhvr>
                                        <p:cTn id="130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6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7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8900"/>
                            </p:stCondLst>
                            <p:childTnLst>
                              <p:par>
                                <p:cTn id="139" nodeType="afterEffect" fill="hold" presetClass="exit" presetID="56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 calcmode="lin" valueType="num" from="(#ppt_w)" to="(-#ppt_w*2)">
                                      <p:cBhvr additive="repl">
                                        <p:cTn id="140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1" dur="1500" autoRev="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1+#ppt_h/2)">
                                      <p:cBhvr additive="repl">
                                        <p:cTn id="14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3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2T04:04:23Z</dcterms:created>
  <dc:creator>张芳向 Netboy</dc:creator>
  <dc:description/>
  <dc:language>en-US</dc:language>
  <cp:lastModifiedBy>全球</cp:lastModifiedBy>
  <dcterms:modified xsi:type="dcterms:W3CDTF">2004-12-22T04:04:24Z</dcterms:modified>
  <cp:revision>6</cp:revision>
  <dc:subject/>
  <dc:title>PPT动画案例</dc:title>
</cp:coreProperties>
</file>