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232-E590-4CF4-A914-A320173B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8EE-D3E7-4519-A5C3-98F586C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DC218-14C0-464D-8BA7-3180838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EA6C9-F989-4D28-8BFB-BD115B8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CF07A-B737-48E5-BA27-B2153C0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C50A5-0B1C-43B7-A0C6-2408153C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8C772-FD8B-4CAC-B7BF-5AEA62C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E8343-327D-49D5-B49D-206F16F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44223-F21F-4348-A5FB-BAF695F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D16D7-1B0B-454B-9B85-83DA0EF1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6898E-3C31-42E7-BD5C-1083C55F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5D3E1-CA2F-41F4-B930-7BA9A01C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5A8-9FC0-4276-925D-2AA276A6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AB914-2E43-4AB4-AAF3-3B101C6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591ED-719C-454E-9C29-486A00D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590C3-7799-4946-8C79-6E73B7E8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EE3C3-BFED-4CC6-A130-E643CA06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A6DD5-1656-4D55-86AF-EF2027F7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99432-9755-4C51-B985-6042855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6F242-F167-484A-964C-869C6D9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0AF1B-65ED-499D-8064-7C137BF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F6B67-299F-4518-8EF5-9370E063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57C3B-BE93-4443-AF57-C7B9FF0E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C7B-34FD-4A7D-9D79-D4FF3B5C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F7DD7-5BBF-48FA-9E70-6993249D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2AB56C-BB73-43EE-B452-D2D76D80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F860A-0FB2-4497-8720-9EFB6EB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119EF9-6F0E-4A1F-B96E-88C2864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91D66B-A924-4540-919A-066F8BE8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B68640-EFB0-433D-87A6-0AEEBC6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CD225-72D0-4261-89CF-14802FD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6E3176-FA2F-4956-AD88-F06B96F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5E4234-7505-4824-9318-3107381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E083FB-1D1F-428F-BDF7-E64E908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6E5D-5DEF-4ACF-A14F-4E5ED7E0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742454-F252-4E72-A38A-15931F2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092936-6C49-441B-A7E7-7DEB8DB0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253D5D-BA70-4F8E-8CB7-46DD964B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7C764-45F9-4472-A5D1-88C8034E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4E87F-0C04-473D-B277-AC859BB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3CCBF-B3C8-4BB1-8C80-5D4704D9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97189-09E3-4851-8380-0DC3913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1725A-18F7-4FE5-93B9-8A6E7B97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D726E-9E3E-4A17-B92C-9530473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7B06F-77CA-4428-BA8D-81CE777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2C30-D7A3-4F00-9F42-ECBF83A6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9B144-7B32-4DAB-B308-39E543E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2928F-2CB7-407D-AE36-00B282F1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2893B-6A77-4B69-9F63-5D9C2FD1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65335-55A7-4971-99B1-737E219B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61E74-0658-4A80-B8E0-E2D11B98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0BE1D9-5E56-4606-9C77-57F39558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D53D77-EA53-4697-ABE9-305B816A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ED0614-CC01-47BF-A3D2-A077463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F241E5-9D5C-4DDE-A8AB-691BFF38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94036E-E4B8-4D94-AC40-8AA22C5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78B-A53C-4D58-A97A-BA0674BD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BAF724-9655-4666-A936-E4C654E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DCF8C0-5644-4E2F-B386-220DC04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30E28D-7BA3-4124-BDB8-BE045858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026B41-E394-46F0-B241-7F3B50B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2106DD-6062-4664-AD2F-A3B8B91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6A8CBE-2FE1-4D34-8B13-72F7BDF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E5E6DC-9B0B-411F-8F3F-6F6F04BE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E89B97-85BA-4347-8CD3-A108385F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F28BE1-D8AE-4783-80C0-9878317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E062C0-D5CF-4F8A-BA5A-EFC4E626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B122-8D61-4A76-B975-475DC11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AB1221-18BB-4BD3-A195-142EB75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6DFD5E-4764-4DF3-B0E0-D82F5D4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24BA92-2A96-4084-912E-DDECF8D7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0AF707-2EA2-444F-A678-AD9BFE2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A7B26A-3C95-41FD-90F4-B2788E3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BCE106-B78F-43AE-8669-884CCD6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1950D3-A6B1-4383-A65F-BE0EB69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332464-73C9-4223-87C9-8387A177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8D171A-02E1-458D-8EBA-C4BFA156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E8F7-372C-4187-B546-312E550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B53-D99A-42AB-B9E0-461B06A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E12-DB80-46A1-8DEE-2BA4702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7CD-B403-498F-8545-6BF5FF5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EAB-6778-4DD2-84A0-1A5FB6E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24D2-24BF-4BF6-A7FF-D7F2184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FAD-2454-4825-81DD-22FF77A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E807-490C-48BF-AAF8-728105EA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7F2C-5FA6-4CD2-929A-00DB582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E5475-4B38-421F-AF9E-42A333AFF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C1D15-9619-4AC8-9B08-234E37C1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F6F33-3622-489C-9F33-4B61FFC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F3BF1-4EDB-4431-BBFE-E654576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8BFBB-8B1A-4D42-AF50-262F86FA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6AB-8D99-4C4B-AEEF-58EA297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B23B7-613A-4858-BF52-F0252CE6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23E75-9AE3-4C5A-9711-3544E64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C3D34-05A7-41EA-9BC9-3663BCF5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B4367-6F6F-4360-AD75-DB86C83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CE611-C7CA-4873-838E-F1E92648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4C5C8-5530-47DE-AE6C-22DBCE1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0A656-8FE1-4E09-8B00-AACC3A0E3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CCFD8-AD3A-46CA-89DA-D63B4BEB6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637DA-8538-46A3-B7CB-A23C77E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9841F-2277-4EFA-A86D-724506E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A3C-C26C-44B0-B718-5C7A954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D6FD5-7441-4DD1-B6F3-E4BC7C10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48172-6209-47ED-9294-9ABF99CF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F5873-4D21-4958-9193-95AD6CB1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D9184-6841-486A-A3EE-19F7DD8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B93B7-8996-4041-94F5-FFF262E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360F1-1BE2-4320-ABD0-A3B700C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6A803-676A-4C75-825C-3255B5B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061A6-24D1-403F-A58E-4466EB3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9AC5F-6916-4AEB-9659-4FDB7B3BD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A2C16-E9A2-4243-97D2-2DCC0F4D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F97-71FC-456A-B8CD-EE5718F4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82590-B164-44D2-871C-71E7FC1F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DE359-CB38-4C7B-8453-49ABE57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C3252-2643-4F71-8119-C4AD4ED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03615-AEA5-4016-848C-CD4812B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D40FD-F035-40AE-9ACA-5BF8E565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20105-EF5E-4B59-81E3-15526D6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D4AA3-72E3-445A-95B7-AEF5891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09A85-9E50-4CFC-8C3E-55DDA09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3FDB2-1E9E-4911-9763-B6100D79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CC7D3-C003-4B3D-AB51-B969B5A9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786-6DA4-43DE-BFEA-FA6467D8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9ED21-E157-4C6F-87A2-DA902F43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9E7C4-D63B-40CB-9E32-95F45448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6A9FC-44D4-42F7-9A45-00186B47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8F3B7-D400-44BD-84A6-F87531E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AE4486-E285-4683-9AFC-90AE9C3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BDC86-A365-44C8-89C7-B2F8E01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0381D-36E4-43A1-88C8-107497B4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9EFE0-5038-43D3-A265-876DFA8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1ABD8-CA6D-4B98-917D-998032C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C2B60-5181-4381-9046-3A0BDF1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06B-B21C-4231-9D65-EA36718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D279DB-4354-41C2-B552-02793FB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B9665-D92F-4D97-9048-8E1047A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2133E-64BE-4DBD-BBE9-2D198A16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07F83-A426-4538-90A8-FFBED3C6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7A4DF-2829-4E11-8A29-80CEFF2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9A9A3B-87E1-4F05-B8FA-AF23DF9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C2651-8AD8-4140-A8CC-20DA2F3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89D57-E391-4184-8398-9946B8D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2D276-382C-4D7C-A016-52D43460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3417B-E0F3-48DC-A653-452D68E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7D9-0ED4-42B1-B2D2-1B7228C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331AE-6B41-4D41-A685-2BB2267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7847C-B08C-44D2-B038-FACE0D0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B85EB-84B1-491E-B88F-405ACD2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16C11-D866-4723-8D22-936E68A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71B7AC-246F-4868-A2A4-D0034539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457B6F-7C74-41FE-B400-7E8870E9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51EEF9-D0FC-4AF3-9EF5-4280A24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97F83B-C92B-45D3-9860-3E14DB9E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9855E-6998-4E66-849E-7A58A4C7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802DB-BBB8-4788-82C2-2293FB4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756-EC41-4C32-B4BC-29800B2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B3365F-7D50-4514-8643-5A60A16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80344-04A4-4E5F-9469-AFE45A4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B8684-0650-4006-816D-634EE3E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C044F-77E4-425D-B32F-5FB1FB2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9A476-EA01-41F4-9049-C983855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50785-A18F-4F19-AA3E-7C385070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37672C-2D86-48B3-B095-F3275CF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94707-32CE-4F06-8E39-EFABFB5F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6BB59-1212-41AC-877C-7E7FB26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92F84-C766-48E1-BFD6-705D652C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1AD6-2D2F-4366-A360-ED092AF29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BDE-07E1-43F7-B1C5-3A9385A684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98E-F5BC-4D5C-B753-AB87DE757A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A83-D6AE-494A-A320-86A11D3A2A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5C9-F571-4DA7-96EC-B9E77B75F1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50F-C12A-4299-B98F-EF9806C6E9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C25-E969-4146-9111-BFAEAC3AF0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CF2-13EF-4224-A247-F493C9E87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46A1-A6B0-41E8-BF94-A0179081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208-D686-4DAD-95B7-EAFD6AF9EF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D43-C8ED-43FE-8311-6DC2FE8CCC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C0E-E4D9-4BFA-AE6A-B6BA0AB744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0B1-AA6B-47CA-9703-FF3448D834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F37-6673-4DDA-8294-B8DCAD6FA3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3494160" y="3860640"/>
            <a:ext cx="30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微软用户</cp:lastModifiedBy>
  <dcterms:modified xsi:type="dcterms:W3CDTF">2015-02-05T05:52:37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